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D9C-2355-4CDC-8E8B-317B6461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AEE-B6AB-4823-AD9A-C932B08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E10-23ED-4FBA-AFDB-F2A3A081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E42-5E0A-4A2D-8972-0D98E933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7788-963F-4915-9FD9-CD02C694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73E7-F0C5-4F6F-8D95-ACBE9F4B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74E5-D6B9-43EC-A8DD-84D9FE9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0F41-8177-4BDB-90AD-2C16DF84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614D-422B-4FB0-B9F7-F99FBDF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CEBE-A3A4-4D5C-802C-6F135E7E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95C6-AC90-40B2-98CB-EC307B6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98C-1FF9-4184-B3C5-4C7F1D17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29F6-9312-4F30-A37C-4A05C99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62D8-2926-4402-A97A-CCB5DB7E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EE15-214D-4B80-AB4E-5619355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E1D2-8482-4A34-A85E-5C74BBD0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909F-45DC-416E-8126-ADF624EE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DC4-1D9D-4A10-9B8D-4E0A9858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D28-208E-42B0-B3E3-E40C8471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62D-90CA-48A2-B62F-51B3D62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F90-B9E4-453E-B67E-CB6904DE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64A-0945-4E18-8EF1-C474CBE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8C6-EA11-4D98-8F0A-231733FC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243-9564-4161-AE4A-8FD56AC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9F88-1551-4B24-9702-90BBA4694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51E-A6B9-4D04-BBA4-099BD1B30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bcbcb"/>
                </a:solidFill>
                <a:latin typeface="Arial Narrow"/>
              </a:rPr>
              <a:t>Betriebliche Systemforschung (OR)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il 3 – Aufgabe 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us Tress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Umladeproblem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9957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Beschreibung des Problem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sprungsorte 1 und 3 mit Angebot von je 5ME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immungsorte 4 und 5 mit Nachfrage von 8 und 2ME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adeorte 2 und 3 und 4, in 5 dar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mgeladen wer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adekost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3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Aufgab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ormen Sie das dargestellte Umladeproblem in e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-Transportproblem 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ll die Transportmethode zur Lösung eingesetzt werden, müssen die Umladevariablen durch Substitution mit negativem Vorzeichen ausgestattet wer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T -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Umladeproblem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b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5 + 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4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b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4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b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5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7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6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2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4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9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7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4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3(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i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N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&gt;= 0; ganzzahl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cbcbcb"/>
                </a:solidFill>
                <a:uFillTx/>
                <a:latin typeface="Arial"/>
                <a:ea typeface="Arial"/>
              </a:rPr>
              <a:t>Standard</a:t>
            </a:r>
            <a:r>
              <a:rPr b="1" lang="en-GB" sz="3600" spc="-1" strike="noStrike">
                <a:solidFill>
                  <a:srgbClr val="cbcbcb"/>
                </a:solidFill>
                <a:latin typeface="Arial"/>
                <a:ea typeface="Arial"/>
              </a:rPr>
              <a:t>-Transportproblem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bcb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T –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GB" sz="18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3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5 +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GB" sz="1800" spc="-1" strike="noStrike" baseline="-25000">
                <a:solidFill>
                  <a:srgbClr val="ffffff"/>
                </a:solidFill>
                <a:latin typeface="Arial"/>
              </a:rPr>
              <a:t>4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4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GB" sz="1800" spc="-1" strike="noStrike" baseline="-25000">
                <a:solidFill>
                  <a:srgbClr val="ffffff"/>
                </a:solidFill>
                <a:latin typeface="Arial"/>
              </a:rPr>
              <a:t>3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3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4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5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7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6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2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4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9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7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4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4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9T - 3(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4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i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N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gt;= 0; ganzzahli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Loesung Transportproblem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2286000"/>
          <a:ext cx="563868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563868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867280" y="4495680"/>
            <a:ext cx="609840" cy="228600"/>
          </a:xfrm>
          <a:prstGeom prst="ellipse">
            <a:avLst/>
          </a:prstGeom>
          <a:noFill/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6:03:49Z</dcterms:created>
  <dc:creator>Administrator</dc:creator>
  <dc:description/>
  <dc:language>en-US</dc:language>
  <cp:lastModifiedBy>tressl</cp:lastModifiedBy>
  <dcterms:modified xsi:type="dcterms:W3CDTF">2001-01-18T14:34:46Z</dcterms:modified>
  <cp:revision>10</cp:revision>
  <dc:subject/>
  <dc:title>Betriebliche Systemforschung</dc:title>
</cp:coreProperties>
</file>