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8B5C-4EC3-4B2F-91A2-FA665DCF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D79C-D26E-4DEA-B86E-19F39374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EF07-61A3-4866-9451-4DA569B3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F48E-1A81-4C59-823C-C28575BBE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303A-4C95-40EC-B570-5A1CB3A3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B43B-29E0-4056-96EE-B401D6B3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3EB5-D708-4D16-9532-B8C934F3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51A9-A27F-4701-B19D-D958F9CF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C8F1-774E-42F6-8AE0-95583E67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EBDE-3472-4F65-A7C2-E450DEBA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59C0-7BAC-44D5-8F39-2C42D290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4324-3C67-4DAC-8247-D5537063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C774-7ECB-4E04-9307-47916962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0A9A-4049-4299-9C11-E0ACA51B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ED67-C61E-444A-A72B-EC0F1C1D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1058-6FAA-423A-9730-DA4633DF4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740F-767B-4BE6-BFB4-FE55ACD23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42BA-5278-4D2A-BABB-FC44BFA7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5FCA-BB28-4BB5-AA5C-D364756F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BD2F-29CA-4F3B-956F-B456A6AA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AFAB-F148-4BC3-A25D-2D049133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13D7-A51F-4B57-8743-58E1CE4B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3812-5BE8-4940-8C65-402AD6E6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0A63-CA86-4692-90FD-65BD08B3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CED8-EDA1-4DB9-BB96-E366511C0E9B}" type="slidenum"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1216-6EB0-4337-82A4-2EA6686D1746}" type="slidenum"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ufgabe 50 Teil 3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2209680"/>
            <a:ext cx="82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ür die Pflegestation eines Krankenhauses ist die Personaleinsatzplanung durchzuführen. In folgender Tabelle wird die Anzahl der in dem jeweiligen Zeitinterwall eines Pflegetages benötigten Pflegekräfte angegeben: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1" name="tabelle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5562720" cy="9144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09480" y="4311720"/>
            <a:ext cx="853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ögliche Dienstbeginnzeiten sind: 4.00 Uhr, 8.00 Uhr, 12.00 Uhr, 16.00 Uhr und 20.00 Uhr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Die Dienstzeit pro Tag beträgt für jede Pflegekraft (zusammenhängend) 8 Stunden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2120" y="5116680"/>
            <a:ext cx="784836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3366"/>
                </a:solidFill>
                <a:uFillTx/>
                <a:latin typeface="Arial"/>
              </a:rPr>
              <a:t>Aufgabe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a)  Formulieren Sie einen Ansatz der Linearer Programmierung zur Beantwortung  der Frage, wieviele  Pflegekräfte zu Beginn jedes Zeitabschnitts ihren Dienst antreten müssen unter der Bedingung, dass der </a:t>
            </a:r>
            <a:r>
              <a:rPr b="0" lang="de-DE" sz="1600" spc="-1" strike="noStrike" u="sng">
                <a:solidFill>
                  <a:srgbClr val="003366"/>
                </a:solidFill>
                <a:uFillTx/>
                <a:latin typeface="Arial"/>
              </a:rPr>
              <a:t>Bedarf an Pflegekräften gedeckt ist und die Gesamtanzahl des benötigten Personals minimal wird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ufgabe 50 Teil 3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14400" y="2133720"/>
            <a:ext cx="7620120" cy="44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3366"/>
                </a:solidFill>
                <a:uFillTx/>
                <a:latin typeface="Arial"/>
              </a:rPr>
              <a:t>Wir haben 5 Schichten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Schicht 1:  04.00 –12.00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Schicht 2:  08.00 –16.00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Schicht 3:  12.00 –20.00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Schicht 4:  16.00 –24.00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Schicht 5:  20.00 –04.00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3366"/>
                </a:solidFill>
                <a:uFillTx/>
                <a:latin typeface="Arial"/>
              </a:rPr>
              <a:t>Und müssen 5 Zeitintervalle einplanen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(04.00 – 08.00 )                                   x1 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&gt;= 2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(08.00 – 12.00 )                                   x1 + x2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&gt;= 6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(12.00 – 16.00 )                                           x2 + x3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&gt;= 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(16.00 – 20.00 )                                                   x3 + x4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&gt;= 4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(20.00 – 04.00 )                                                                 x5  &gt;= 1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95480" y="5334120"/>
            <a:ext cx="1295640" cy="228600"/>
          </a:xfrm>
          <a:prstGeom prst="rightArrow">
            <a:avLst>
              <a:gd name="adj1" fmla="val 50000"/>
              <a:gd name="adj2" fmla="val 141693"/>
            </a:avLst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ufgabe 50 Teil 3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8080" y="2286000"/>
            <a:ext cx="792504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3366"/>
                </a:solidFill>
                <a:uFillTx/>
                <a:latin typeface="Arial"/>
              </a:rPr>
              <a:t>LP-Ansatz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x1 +   0 +   0 +  0  +  0     &gt;= 2          ( 04.00 – 08.00 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x1 +  x2 +  0  +  0 +  0     &gt;= 6          ( 08.00 – 12.00 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0  +   x2 + x3 +  0 +  0     &gt;= 3          (12.00 – 16.00 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0  +   0  + x3 +  x4 + 0     &gt;= 4          (16.00 – 20.00 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0  +   0  +  0  +  0  + x5     &gt;= 1         (20.00 – 04.00 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3366"/>
                </a:solidFill>
                <a:uFillTx/>
                <a:latin typeface="Arial"/>
              </a:rPr>
              <a:t>ZF: x1+ x2 +x3 + x4 +x5  </a:t>
            </a:r>
            <a:r>
              <a:rPr b="0" lang="de-DE" sz="1600" spc="-1" strike="noStrike" u="sng">
                <a:solidFill>
                  <a:srgbClr val="003366"/>
                </a:solidFill>
                <a:uFillTx/>
                <a:latin typeface="Wingdings"/>
                <a:ea typeface="Wingdings"/>
              </a:rPr>
              <a:t></a:t>
            </a:r>
            <a:r>
              <a:rPr b="0" lang="de-DE" sz="1600" spc="-1" strike="noStrike" u="sng">
                <a:solidFill>
                  <a:srgbClr val="003366"/>
                </a:solidFill>
                <a:uFillTx/>
                <a:latin typeface="Arial"/>
              </a:rPr>
              <a:t>  MI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3366"/>
                </a:solidFill>
                <a:uFillTx/>
                <a:latin typeface="Arial"/>
              </a:rPr>
              <a:t>NNB: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x1, x2, x3, x4, x5 &gt;=0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ufgabe 50 Teil 3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starttablo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5029200" cy="1600200"/>
          </a:xfrm>
          <a:prstGeom prst="rect">
            <a:avLst/>
          </a:prstGeom>
          <a:ln w="0">
            <a:noFill/>
          </a:ln>
        </p:spPr>
      </p:pic>
      <p:pic>
        <p:nvPicPr>
          <p:cNvPr id="301" name="erga" descr=""/>
          <p:cNvPicPr/>
          <p:nvPr/>
        </p:nvPicPr>
        <p:blipFill>
          <a:blip r:embed="rId2"/>
          <a:stretch/>
        </p:blipFill>
        <p:spPr>
          <a:xfrm>
            <a:off x="990720" y="4467240"/>
            <a:ext cx="7180200" cy="22384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990720" y="3886200"/>
            <a:ext cx="73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3366"/>
                </a:solidFill>
                <a:uFillTx/>
                <a:latin typeface="Arial"/>
              </a:rPr>
              <a:t>Lösung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:              x1 = 3,   x2 = 3,   x3 = 0,   x4 = 4,    x5 = 1.</a:t>
            </a:r>
            <a:r>
              <a:rPr b="1" lang="de-DE" sz="1600" spc="-1" strike="noStrike" u="sng">
                <a:solidFill>
                  <a:srgbClr val="003366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ufgabe 50 Teil 3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8080" y="2057400"/>
            <a:ext cx="784872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</a:rPr>
              <a:t>Aufgabe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b )  Der pro Zeitintervall angegebener Personalbedarf muss nicht exakt eingehalten werden, vielmehr soll die </a:t>
            </a: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</a:rPr>
              <a:t>Summe der ungewichteter Abweichungen vom benötigten Arbeitskräftebedarf für jedes Zeitintervall minimal werden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Wie muss der in der Teilaufgabe a) erstellte Ansatz der Linearer Programmierung verändert erden?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3733920"/>
            <a:ext cx="647712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x1 +   0 +   0 +  0  +  0       +   y1   =  2         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x1 +  x2 +  0  +  0 +  0       +   y2   =  6         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0  +   x2 + x3 +  0 +  0       +   y3   =  3         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0  +   0  + x3 +  x4 + 0       +   y4   =  4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0  +   0  +  0  +  0  + x5      +   y5   =  1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3366"/>
                </a:solidFill>
                <a:uFillTx/>
                <a:latin typeface="Arial"/>
              </a:rPr>
              <a:t>ZF: | y1|+| y2| +| y3 | + | y4 | +| y5 |  </a:t>
            </a:r>
            <a:r>
              <a:rPr b="0" lang="de-DE" sz="1600" spc="-1" strike="noStrike" u="sng">
                <a:solidFill>
                  <a:srgbClr val="003366"/>
                </a:solidFill>
                <a:uFillTx/>
                <a:latin typeface="Wingdings"/>
                <a:ea typeface="Wingdings"/>
              </a:rPr>
              <a:t></a:t>
            </a:r>
            <a:r>
              <a:rPr b="0" lang="de-DE" sz="1600" spc="-1" strike="noStrike" u="sng">
                <a:solidFill>
                  <a:srgbClr val="003366"/>
                </a:solidFill>
                <a:uFillTx/>
                <a:latin typeface="Arial"/>
              </a:rPr>
              <a:t>  MI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3366"/>
                </a:solidFill>
                <a:uFillTx/>
                <a:latin typeface="Arial"/>
              </a:rPr>
              <a:t>NNB: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x1, x2, x3, x4, x5 &gt;=0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ufgabe 50 Teil 3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66680" y="2057400"/>
            <a:ext cx="647712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Ist eine Variable Vorzeichenunbeschränkt, so wird sie in ihren positiven und negativen Anteil aufgeteilt: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y1   =  y1</a:t>
            </a:r>
            <a:r>
              <a:rPr b="0" lang="de-DE" sz="1800" spc="-1" strike="noStrike" baseline="30000">
                <a:solidFill>
                  <a:srgbClr val="003366"/>
                </a:solidFill>
                <a:latin typeface="Arial"/>
              </a:rPr>
              <a:t>-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- y1</a:t>
            </a:r>
            <a:r>
              <a:rPr b="0" lang="de-DE" sz="16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y2   =  y2</a:t>
            </a:r>
            <a:r>
              <a:rPr b="0" lang="de-DE" sz="1800" spc="-1" strike="noStrike" baseline="30000">
                <a:solidFill>
                  <a:srgbClr val="003366"/>
                </a:solidFill>
                <a:latin typeface="Arial"/>
              </a:rPr>
              <a:t>-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- y2</a:t>
            </a:r>
            <a:r>
              <a:rPr b="0" lang="de-DE" sz="16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y3   =  y3</a:t>
            </a:r>
            <a:r>
              <a:rPr b="0" lang="de-DE" sz="1800" spc="-1" strike="noStrike" baseline="30000">
                <a:solidFill>
                  <a:srgbClr val="003366"/>
                </a:solidFill>
                <a:latin typeface="Arial"/>
              </a:rPr>
              <a:t>-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- y3</a:t>
            </a:r>
            <a:r>
              <a:rPr b="0" lang="de-DE" sz="1600" spc="-1" strike="noStrike" baseline="-25000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y4   =  y4</a:t>
            </a:r>
            <a:r>
              <a:rPr b="0" lang="de-DE" sz="1800" spc="-1" strike="noStrike" baseline="30000">
                <a:solidFill>
                  <a:srgbClr val="003366"/>
                </a:solidFill>
                <a:latin typeface="Arial"/>
              </a:rPr>
              <a:t>-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- y4</a:t>
            </a:r>
            <a:r>
              <a:rPr b="0" lang="de-DE" sz="16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y5   =  y5</a:t>
            </a:r>
            <a:r>
              <a:rPr b="0" lang="de-DE" sz="1800" spc="-1" strike="noStrike" baseline="30000">
                <a:solidFill>
                  <a:srgbClr val="003366"/>
                </a:solidFill>
                <a:latin typeface="Arial"/>
              </a:rPr>
              <a:t>-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- y5</a:t>
            </a:r>
            <a:r>
              <a:rPr b="0" lang="de-DE" sz="16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Die „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Unterschreitungsvariable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“   y</a:t>
            </a:r>
            <a:r>
              <a:rPr b="0" lang="de-DE" sz="18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de-DE" sz="1800" spc="-1" strike="noStrike" baseline="30000">
                <a:solidFill>
                  <a:srgbClr val="003366"/>
                </a:solidFill>
                <a:latin typeface="Arial"/>
              </a:rPr>
              <a:t>-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 nimmt den (positiven) Betrag von y</a:t>
            </a:r>
            <a:r>
              <a:rPr b="0" lang="de-DE" sz="18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an, wenn y</a:t>
            </a:r>
            <a:r>
              <a:rPr b="0" lang="de-DE" sz="18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positiv ausfällt  (y</a:t>
            </a:r>
            <a:r>
              <a:rPr b="0" lang="de-DE" sz="18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de-DE" sz="18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wird dann Null)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Die „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Überschreitungsvariable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“   y</a:t>
            </a:r>
            <a:r>
              <a:rPr b="0" lang="de-DE" sz="18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de-DE" sz="1800" spc="-1" strike="noStrike" baseline="30000">
                <a:solidFill>
                  <a:srgbClr val="003366"/>
                </a:solidFill>
                <a:latin typeface="Arial"/>
              </a:rPr>
              <a:t>+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nimmt den Absolutbetrag von y</a:t>
            </a:r>
            <a:r>
              <a:rPr b="0" lang="de-DE" sz="18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an, wenn y</a:t>
            </a:r>
            <a:r>
              <a:rPr b="0" lang="de-DE" sz="18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negativ ausfällt  (dann wird  y</a:t>
            </a:r>
            <a:r>
              <a:rPr b="0" lang="de-DE" sz="18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de-DE" sz="1800" spc="-1" strike="noStrike" baseline="30000">
                <a:solidFill>
                  <a:srgbClr val="003366"/>
                </a:solidFill>
                <a:latin typeface="Arial"/>
              </a:rPr>
              <a:t>-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 zu Null)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09880" y="4419720"/>
            <a:ext cx="4343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Times New Roman"/>
              </a:rPr>
              <a:t>Mit  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y</a:t>
            </a:r>
            <a:r>
              <a:rPr b="0" lang="de-DE" sz="18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de-DE" sz="1800" spc="-1" strike="noStrike" baseline="30000">
                <a:solidFill>
                  <a:srgbClr val="003366"/>
                </a:solidFill>
                <a:latin typeface="Arial"/>
              </a:rPr>
              <a:t>-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- y</a:t>
            </a:r>
            <a:r>
              <a:rPr b="0" lang="de-DE" sz="16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de-DE" sz="16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  = 0           ( i = 1, 2, 3, 4, 5 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ufgabe 50 Teil 3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447920" y="2514600"/>
            <a:ext cx="7238880" cy="35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x1 +   0 +   0 +  0  +  0   +   y1</a:t>
            </a:r>
            <a:r>
              <a:rPr b="0" lang="de-DE" sz="1800" spc="-1" strike="noStrike" baseline="30000">
                <a:solidFill>
                  <a:srgbClr val="003366"/>
                </a:solidFill>
                <a:latin typeface="Arial"/>
              </a:rPr>
              <a:t>-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 - y1</a:t>
            </a:r>
            <a:r>
              <a:rPr b="0" lang="de-DE" sz="16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=  2         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x1 +  x2 +  0  +  0 +  0    +   y2</a:t>
            </a:r>
            <a:r>
              <a:rPr b="0" lang="de-DE" sz="1800" spc="-1" strike="noStrike" baseline="30000">
                <a:solidFill>
                  <a:srgbClr val="003366"/>
                </a:solidFill>
                <a:latin typeface="Arial"/>
              </a:rPr>
              <a:t>-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 - y2</a:t>
            </a:r>
            <a:r>
              <a:rPr b="0" lang="de-DE" sz="16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=  6         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0  +   x2 + x3 +  0 +  0    +   y3</a:t>
            </a:r>
            <a:r>
              <a:rPr b="0" lang="de-DE" sz="1800" spc="-1" strike="noStrike" baseline="30000">
                <a:solidFill>
                  <a:srgbClr val="003366"/>
                </a:solidFill>
                <a:latin typeface="Arial"/>
              </a:rPr>
              <a:t>-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 - y3</a:t>
            </a:r>
            <a:r>
              <a:rPr b="0" lang="de-DE" sz="16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=  3         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0  +   0  + x3 +  x4 + 0    +    y4</a:t>
            </a:r>
            <a:r>
              <a:rPr b="0" lang="de-DE" sz="1800" spc="-1" strike="noStrike" baseline="30000">
                <a:solidFill>
                  <a:srgbClr val="003366"/>
                </a:solidFill>
                <a:latin typeface="Arial"/>
              </a:rPr>
              <a:t>-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 - y4</a:t>
            </a:r>
            <a:r>
              <a:rPr b="0" lang="de-DE" sz="16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=  4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0  +   0  +  0  +  0  + x5   +   y5</a:t>
            </a:r>
            <a:r>
              <a:rPr b="0" lang="de-DE" sz="1800" spc="-1" strike="noStrike" baseline="30000">
                <a:solidFill>
                  <a:srgbClr val="003366"/>
                </a:solidFill>
                <a:latin typeface="Arial"/>
              </a:rPr>
              <a:t>-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- y5</a:t>
            </a:r>
            <a:r>
              <a:rPr b="0" lang="de-DE" sz="16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=  1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3366"/>
                </a:solidFill>
                <a:uFillTx/>
                <a:latin typeface="Arial"/>
              </a:rPr>
              <a:t>ZF: y1</a:t>
            </a:r>
            <a:r>
              <a:rPr b="0" lang="de-DE" sz="1800" spc="-1" strike="noStrike" u="sng" baseline="30000">
                <a:solidFill>
                  <a:srgbClr val="003366"/>
                </a:solidFill>
                <a:uFillTx/>
                <a:latin typeface="Arial"/>
              </a:rPr>
              <a:t>-</a:t>
            </a:r>
            <a:r>
              <a:rPr b="0" lang="de-DE" sz="1600" spc="-1" strike="noStrike" u="sng">
                <a:solidFill>
                  <a:srgbClr val="003366"/>
                </a:solidFill>
                <a:uFillTx/>
                <a:latin typeface="Arial"/>
              </a:rPr>
              <a:t> +  y1</a:t>
            </a:r>
            <a:r>
              <a:rPr b="0" lang="de-DE" sz="1600" spc="-1" strike="noStrike" u="sng" baseline="30000">
                <a:solidFill>
                  <a:srgbClr val="003366"/>
                </a:solidFill>
                <a:uFillTx/>
                <a:latin typeface="Arial"/>
              </a:rPr>
              <a:t>+</a:t>
            </a:r>
            <a:r>
              <a:rPr b="0" lang="de-DE" sz="1600" spc="-1" strike="noStrike" u="sng">
                <a:solidFill>
                  <a:srgbClr val="003366"/>
                </a:solidFill>
                <a:uFillTx/>
                <a:latin typeface="Arial"/>
              </a:rPr>
              <a:t> + y2</a:t>
            </a:r>
            <a:r>
              <a:rPr b="0" lang="de-DE" sz="1800" spc="-1" strike="noStrike" u="sng" baseline="30000">
                <a:solidFill>
                  <a:srgbClr val="003366"/>
                </a:solidFill>
                <a:uFillTx/>
                <a:latin typeface="Arial"/>
              </a:rPr>
              <a:t>-</a:t>
            </a:r>
            <a:r>
              <a:rPr b="0" lang="de-DE" sz="1600" spc="-1" strike="noStrike" u="sng">
                <a:solidFill>
                  <a:srgbClr val="003366"/>
                </a:solidFill>
                <a:uFillTx/>
                <a:latin typeface="Arial"/>
              </a:rPr>
              <a:t> + y2</a:t>
            </a:r>
            <a:r>
              <a:rPr b="0" lang="de-DE" sz="1600" spc="-1" strike="noStrike" u="sng" baseline="30000">
                <a:solidFill>
                  <a:srgbClr val="003366"/>
                </a:solidFill>
                <a:uFillTx/>
                <a:latin typeface="Arial"/>
              </a:rPr>
              <a:t>+</a:t>
            </a:r>
            <a:r>
              <a:rPr b="0" lang="de-DE" sz="1600" spc="-1" strike="noStrike" u="sng">
                <a:solidFill>
                  <a:srgbClr val="003366"/>
                </a:solidFill>
                <a:uFillTx/>
                <a:latin typeface="Arial"/>
              </a:rPr>
              <a:t> + y3</a:t>
            </a:r>
            <a:r>
              <a:rPr b="0" lang="de-DE" sz="1800" spc="-1" strike="noStrike" u="sng" baseline="30000">
                <a:solidFill>
                  <a:srgbClr val="003366"/>
                </a:solidFill>
                <a:uFillTx/>
                <a:latin typeface="Arial"/>
              </a:rPr>
              <a:t>-</a:t>
            </a:r>
            <a:r>
              <a:rPr b="0" lang="de-DE" sz="1600" spc="-1" strike="noStrike" u="sng">
                <a:solidFill>
                  <a:srgbClr val="003366"/>
                </a:solidFill>
                <a:uFillTx/>
                <a:latin typeface="Arial"/>
              </a:rPr>
              <a:t> +  y3</a:t>
            </a:r>
            <a:r>
              <a:rPr b="0" lang="de-DE" sz="1600" spc="-1" strike="noStrike" u="sng" baseline="30000">
                <a:solidFill>
                  <a:srgbClr val="003366"/>
                </a:solidFill>
                <a:uFillTx/>
                <a:latin typeface="Arial"/>
              </a:rPr>
              <a:t>+</a:t>
            </a:r>
            <a:r>
              <a:rPr b="0" lang="de-DE" sz="1600" spc="-1" strike="noStrike" u="sng">
                <a:solidFill>
                  <a:srgbClr val="003366"/>
                </a:solidFill>
                <a:uFillTx/>
                <a:latin typeface="Arial"/>
              </a:rPr>
              <a:t> +  y4</a:t>
            </a:r>
            <a:r>
              <a:rPr b="0" lang="de-DE" sz="1800" spc="-1" strike="noStrike" u="sng" baseline="30000">
                <a:solidFill>
                  <a:srgbClr val="003366"/>
                </a:solidFill>
                <a:uFillTx/>
                <a:latin typeface="Arial"/>
              </a:rPr>
              <a:t>-</a:t>
            </a:r>
            <a:r>
              <a:rPr b="0" lang="de-DE" sz="1600" spc="-1" strike="noStrike" u="sng">
                <a:solidFill>
                  <a:srgbClr val="003366"/>
                </a:solidFill>
                <a:uFillTx/>
                <a:latin typeface="Arial"/>
              </a:rPr>
              <a:t> + y4</a:t>
            </a:r>
            <a:r>
              <a:rPr b="0" lang="de-DE" sz="1600" spc="-1" strike="noStrike" u="sng" baseline="30000">
                <a:solidFill>
                  <a:srgbClr val="003366"/>
                </a:solidFill>
                <a:uFillTx/>
                <a:latin typeface="Arial"/>
              </a:rPr>
              <a:t>+</a:t>
            </a:r>
            <a:r>
              <a:rPr b="0" lang="de-DE" sz="1600" spc="-1" strike="noStrike" u="sng">
                <a:solidFill>
                  <a:srgbClr val="003366"/>
                </a:solidFill>
                <a:uFillTx/>
                <a:latin typeface="Arial"/>
              </a:rPr>
              <a:t> + y5</a:t>
            </a:r>
            <a:r>
              <a:rPr b="0" lang="de-DE" sz="1800" spc="-1" strike="noStrike" u="sng" baseline="30000">
                <a:solidFill>
                  <a:srgbClr val="003366"/>
                </a:solidFill>
                <a:uFillTx/>
                <a:latin typeface="Arial"/>
              </a:rPr>
              <a:t>- </a:t>
            </a:r>
            <a:r>
              <a:rPr b="0" lang="de-DE" sz="1600" spc="-1" strike="noStrike" u="sng">
                <a:solidFill>
                  <a:srgbClr val="003366"/>
                </a:solidFill>
                <a:uFillTx/>
                <a:latin typeface="Arial"/>
              </a:rPr>
              <a:t> + y5</a:t>
            </a:r>
            <a:r>
              <a:rPr b="0" lang="de-DE" sz="1600" spc="-1" strike="noStrike" u="sng" baseline="30000">
                <a:solidFill>
                  <a:srgbClr val="003366"/>
                </a:solidFill>
                <a:uFillTx/>
                <a:latin typeface="Arial"/>
              </a:rPr>
              <a:t>+</a:t>
            </a:r>
            <a:r>
              <a:rPr b="0" lang="de-DE" sz="16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de-DE" sz="1600" spc="-1" strike="noStrike" u="sng">
                <a:solidFill>
                  <a:srgbClr val="003366"/>
                </a:solidFill>
                <a:uFillTx/>
                <a:latin typeface="Wingdings"/>
                <a:ea typeface="Wingdings"/>
              </a:rPr>
              <a:t></a:t>
            </a:r>
            <a:r>
              <a:rPr b="0" lang="de-DE" sz="1600" spc="-1" strike="noStrike" u="sng">
                <a:solidFill>
                  <a:srgbClr val="003366"/>
                </a:solidFill>
                <a:uFillTx/>
                <a:latin typeface="Arial"/>
              </a:rPr>
              <a:t>  MI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3366"/>
                </a:solidFill>
                <a:uFillTx/>
                <a:latin typeface="Arial"/>
              </a:rPr>
              <a:t>NNB: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x1, x2, x3, x4, x5, y1</a:t>
            </a:r>
            <a:r>
              <a:rPr b="0" lang="de-DE" sz="1800" spc="-1" strike="noStrike" baseline="30000">
                <a:solidFill>
                  <a:srgbClr val="003366"/>
                </a:solidFill>
                <a:latin typeface="Arial"/>
              </a:rPr>
              <a:t>-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, y1</a:t>
            </a:r>
            <a:r>
              <a:rPr b="0" lang="de-DE" sz="16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, y2</a:t>
            </a:r>
            <a:r>
              <a:rPr b="0" lang="de-DE" sz="1800" spc="-1" strike="noStrike" baseline="30000">
                <a:solidFill>
                  <a:srgbClr val="003366"/>
                </a:solidFill>
                <a:latin typeface="Arial"/>
              </a:rPr>
              <a:t>-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, y2</a:t>
            </a:r>
            <a:r>
              <a:rPr b="0" lang="de-DE" sz="16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, y3</a:t>
            </a:r>
            <a:r>
              <a:rPr b="0" lang="de-DE" sz="1800" spc="-1" strike="noStrike" baseline="30000">
                <a:solidFill>
                  <a:srgbClr val="003366"/>
                </a:solidFill>
                <a:latin typeface="Arial"/>
              </a:rPr>
              <a:t>-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, y3</a:t>
            </a:r>
            <a:r>
              <a:rPr b="0" lang="de-DE" sz="16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, y4</a:t>
            </a:r>
            <a:r>
              <a:rPr b="0" lang="de-DE" sz="1800" spc="-1" strike="noStrike" baseline="30000">
                <a:solidFill>
                  <a:srgbClr val="003366"/>
                </a:solidFill>
                <a:latin typeface="Arial"/>
              </a:rPr>
              <a:t>-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, y4</a:t>
            </a:r>
            <a:r>
              <a:rPr b="0" lang="de-DE" sz="16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, y5</a:t>
            </a:r>
            <a:r>
              <a:rPr b="0" lang="de-DE" sz="1800" spc="-1" strike="noStrike" baseline="30000">
                <a:solidFill>
                  <a:srgbClr val="003366"/>
                </a:solidFill>
                <a:latin typeface="Arial"/>
              </a:rPr>
              <a:t>-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, y5</a:t>
            </a:r>
            <a:r>
              <a:rPr b="0" lang="de-DE" sz="16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&gt;=0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ufgabe 50 Teil 3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2120" y="220968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Welche Probleme können in der Praxis auftreten?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3" name="ergb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7169400" cy="39625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6705720" y="4038480"/>
            <a:ext cx="304560" cy="681120"/>
          </a:xfrm>
          <a:custGeom>
            <a:avLst/>
            <a:gdLst>
              <a:gd name="textAreaLeft" fmla="*/ 40680 w 304560"/>
              <a:gd name="textAreaRight" fmla="*/ 263880 w 304560"/>
              <a:gd name="textAreaTop" fmla="*/ 119160 h 681120"/>
              <a:gd name="textAreaBottom" fmla="*/ 493920 h 68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da1102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ufgabe 50 Teil 3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6" name="tabelle" descr=""/>
          <p:cNvPicPr/>
          <p:nvPr/>
        </p:nvPicPr>
        <p:blipFill>
          <a:blip r:embed="rId1"/>
          <a:stretch/>
        </p:blipFill>
        <p:spPr>
          <a:xfrm>
            <a:off x="1219320" y="5410080"/>
            <a:ext cx="5562360" cy="9144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838080" y="2133720"/>
            <a:ext cx="4572000" cy="19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x1 +   0 +   0 +  0  +  0   +   y1</a:t>
            </a:r>
            <a:r>
              <a:rPr b="0" lang="en-US" sz="1800" spc="-1" strike="noStrike" baseline="30000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- y1</a:t>
            </a:r>
            <a:r>
              <a:rPr b="0" lang="en-US" sz="16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=  2         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x1 +  x2 +  0  +  0 +  0    +   y2</a:t>
            </a:r>
            <a:r>
              <a:rPr b="0" lang="en-US" sz="1800" spc="-1" strike="noStrike" baseline="30000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- y2</a:t>
            </a:r>
            <a:r>
              <a:rPr b="0" lang="en-US" sz="16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=  6         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0  +   x2 + x3 +  0 +  0    +   y3</a:t>
            </a:r>
            <a:r>
              <a:rPr b="0" lang="en-US" sz="1800" spc="-1" strike="noStrike" baseline="30000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- y3</a:t>
            </a:r>
            <a:r>
              <a:rPr b="0" lang="en-US" sz="16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=  3         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0  +   0  + x3 +  x4 + 0    +    y4</a:t>
            </a:r>
            <a:r>
              <a:rPr b="0" lang="en-US" sz="1800" spc="-1" strike="noStrike" baseline="30000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- y4</a:t>
            </a:r>
            <a:r>
              <a:rPr b="0" lang="en-US" sz="16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=  4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0  +   0  +  0  +  0  + x5   +   y5</a:t>
            </a:r>
            <a:r>
              <a:rPr b="0" lang="en-US" sz="1800" spc="-1" strike="noStrike" baseline="30000">
                <a:solidFill>
                  <a:srgbClr val="003366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- y5</a:t>
            </a:r>
            <a:r>
              <a:rPr b="0" lang="en-US" sz="16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=  1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952880" y="2133720"/>
            <a:ext cx="17528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 04.00 – 08.00 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 08.00 – 12.00 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2.00 – 16.00 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6.00 – 20.00 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0.00 – 04.00 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733920" y="1905120"/>
            <a:ext cx="228600" cy="685800"/>
          </a:xfrm>
          <a:custGeom>
            <a:avLst/>
            <a:gdLst>
              <a:gd name="textAreaLeft" fmla="*/ 30600 w 228600"/>
              <a:gd name="textAreaRight" fmla="*/ 198000 w 2286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da1102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191120" y="4952880"/>
            <a:ext cx="304560" cy="685800"/>
          </a:xfrm>
          <a:custGeom>
            <a:avLst/>
            <a:gdLst>
              <a:gd name="textAreaLeft" fmla="*/ 40680 w 304560"/>
              <a:gd name="textAreaRight" fmla="*/ 263880 w 30456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da1102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66680" y="4419720"/>
            <a:ext cx="701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Wir haben zwar die Summe der Abweichungen minimiert, aber in diesem Zeitintervall haben wir jetzt nicht gedeckter Bedarf an Pflegekräfte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276720" y="2438280"/>
            <a:ext cx="457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15:01:05Z</dcterms:created>
  <dc:creator>WI</dc:creator>
  <dc:description/>
  <dc:language>en-US</dc:language>
  <cp:lastModifiedBy>WI</cp:lastModifiedBy>
  <dcterms:modified xsi:type="dcterms:W3CDTF">2001-07-05T17:50:42Z</dcterms:modified>
  <cp:revision>28</cp:revision>
  <dc:subject/>
  <dc:title>Aufgabe 36 Teil 3</dc:title>
</cp:coreProperties>
</file>