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E81-35CF-4CE1-8A11-C310CABC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158-F515-4D3C-B6DB-0639420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B39-B1E0-41A5-9125-26B114AB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595-73AF-4AEB-96ED-CF742DF4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7164-B5FD-4283-B6C4-2141F943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03F1-6DB3-4219-AE35-01006627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D29C-01AC-4FA9-A475-CD03A4D2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BE59-3F4D-4F09-ACED-1A9FD03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DD2A-BE89-4AA3-B447-9E2E3FB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A14A-9438-4DB7-86E0-F34FA9D0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4A14-5326-4DF5-B72F-1EEC3F12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ECC-1213-47B6-BFBC-21CB6A4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691A-D569-4944-BE27-9E68FC6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FA66-72A8-4DA1-800D-F630F95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7450-F19A-490A-ACCA-E6A57BAD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E74A-E01B-4C2B-BAE8-D0B6A076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59D1-906A-4E2E-9EE0-788D9787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3A9-2AAD-4FCA-8897-F4787098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9F0-A53A-4580-9829-65C00EE4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74A-7916-472C-A9D9-0A5D6F0F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739-0CAD-4BA5-9E3C-8A030489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8D0-5C4C-4477-9277-8B353BC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D1B-B403-4057-9F81-661EDE05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25B-2189-4ABE-81FB-A36DCBD7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D12-D69D-425D-A6EC-C60BE7745429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FC51-05E2-4AA8-AEA0-23A48CF91A03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OR Aufgabe 48 Teil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hael Kitanov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17680" y="2243160"/>
            <a:ext cx="83214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eder der Professoren spricht den Wunsch aus das sich seine Prüfungen auf möglichst wenige Tage konzentri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 Vari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immt den Wert 1 an wenn der Professor p am Tag t prüft. Sonst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" y="4572000"/>
                <a:ext cx="25146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pt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09680"/>
            <a:ext cx="477504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p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Minimierung der Tage an denen geprüft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,3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......+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,20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5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5,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5,3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.......+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5,20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&gt;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79840" y="2362320"/>
            <a:ext cx="5643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sp: Prof. 1 (Dr. Anton) an Ta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,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2,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3,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....+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0,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– (M*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 &l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,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2,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3,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+....+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0,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– (5*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1,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 &l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nstell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54960" y="2444760"/>
            <a:ext cx="7908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ür den kommenden Prüfungszyklus der Sozial- und Wirtschaft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ssenschaftlichen Fakultät „SOWI“ soll die Zuteilung 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ündlichen Prüfungstermine einer Optimierung unter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haben sich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10 Studente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für die Prüfungen angemeld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alle in den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gleichen fünf Fächer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prüf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Prüfung soll innerhalb eines Zeitraums von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20 aufeinand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folgenden Werktage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bgeschlossen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nstell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drawingml/2006/table">
            <a:tbl>
              <a:tblPr/>
              <a:tblGrid>
                <a:gridCol w="380880"/>
                <a:gridCol w="3809880"/>
                <a:gridCol w="335304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ü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hgeb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. Dr. An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gelist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. Dr. B. Bre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W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. Dr. Dr. Clem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me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. Dr. D. Dona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akt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. Dr. E. Eng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17480" y="2487600"/>
            <a:ext cx="6043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finieren Sie die notwendige(n) Variable(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spt=1 wenn der Student s am Tag t geprüf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spt=0 wenn keine Prüfung stattfi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udent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= 1,2,3,4,5,6,7,8,9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offesor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=1,2,3,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age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=1,2,3,4,5.........18,19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69960" y="2319480"/>
            <a:ext cx="809316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ellen Sie sicher, dass jeder Prüfling seine gesamten Prüfungen able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sp. bei Prof Anton und Student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1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1,2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.......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1,20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9480" y="4267080"/>
                <a:ext cx="1828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p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23640" y="464832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; für alle s und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209680"/>
            <a:ext cx="839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eder Professor kann nicht mehr als fünf mündliche Prüfungen pro Tag abnehmen. Wie lautet die entsprechende Nebenbedin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09480" y="4419720"/>
                <a:ext cx="19051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pt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33520" y="3124080"/>
            <a:ext cx="4676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sp. bei Prof. Brecht am 1.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2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2,2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3,2,1+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..........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0,2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&lt;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54040" y="480060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; für alle p un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" y="2243160"/>
            <a:ext cx="855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of.Dr. Donald nimmt am 8.Tag an einem internationalen Kongress teil und steht an diesem Tag für keine mündliche Prüfung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6600" y="3130560"/>
            <a:ext cx="217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of. Dr. Dona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6040" y="4343400"/>
            <a:ext cx="42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4,8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2,4,8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3,4,8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................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0,4,8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3520" y="5181480"/>
                <a:ext cx="18288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s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438280"/>
            <a:ext cx="83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in Student soll an einem Tag zwei Prüfungen ablegen mü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720" y="2971800"/>
            <a:ext cx="496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sp. für Student 1 am 1.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1,1,1+X1,2,1+X1,3,1+X1,4,1+X1,5,1 &lt;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85800" y="4495680"/>
                <a:ext cx="20574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spt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105720" y="487692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; für alle s un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f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17680" y="2319480"/>
            <a:ext cx="81691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wischen den einzelnen Prüfungen sollen mindestens zwei freie Tage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sp. Für Student 1 vom 1.Tag bis zum 3.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1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2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3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4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5,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1,2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2,2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3,2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4,2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5,2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1,3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2,3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3,3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4,3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,5,3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&lt;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5800" y="4952880"/>
                <a:ext cx="50292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pt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1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985360" y="518796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; für alle s un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5:24:29Z</dcterms:created>
  <dc:creator>kiti</dc:creator>
  <dc:description/>
  <dc:language>en-US</dc:language>
  <cp:lastModifiedBy>kiti</cp:lastModifiedBy>
  <dcterms:modified xsi:type="dcterms:W3CDTF">2001-01-24T20:35:52Z</dcterms:modified>
  <cp:revision>11</cp:revision>
  <dc:subject/>
  <dc:title>OR Aufgabe 48 Teil 3</dc:title>
</cp:coreProperties>
</file>