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22E-C9B0-4004-A7BA-0F22AD0D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D404-F089-42EB-BB90-2F89817A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40BB-0070-433D-B8DC-55439847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DE1C-DBF0-4D75-AC16-EDEFB989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7AFA-8D0A-489B-B9F1-06C6BF48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44CB-0ADA-4938-838C-472E4918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6829-7452-478C-9A0C-47E15BCF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F767-E4E5-4235-978D-0428D954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6C14-66C3-4AE8-A6C9-1D3F7E6A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DE26-DA29-4157-BA9C-21F9C457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7993-2B57-4170-802D-04E4C291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D0B-845E-4C4A-83FF-2981B1F3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BD8A-80B6-4B3B-B171-CB2A745F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4309-C21D-4C81-9CA6-43A4B371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A07F-3999-4E07-BC0F-55C06CFD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2A80-7CC1-47E7-A8B4-E4BBCF9D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641A-85AA-4D32-89DE-4C65A923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9072-9316-4E0A-9BEF-46B28864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A21-7362-45F1-90EF-C91C568A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0E5-FF4A-4B44-8EF3-3EAFF9F8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195-8DD6-4207-80B7-FDBAE647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8F1-3C36-4931-A1B8-DA35AFEB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E1E-5143-4D32-B47E-025A9AA1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7DFC-26DC-4611-8D1A-C9BE66C5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EDE4-0D4B-4788-BBAE-CF28C9B1DC46}" type="slidenum">
              <a:rPr b="0" lang="de-DE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7906-6CD3-4CF5-9442-7BBB74688211}" type="slidenum">
              <a:rPr b="0" lang="de-DE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triebliche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ystemforschu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ufgabenteil 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ufgabe 46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efan Marti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ufgabenstellu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19565" t="30320" r="3044" b="24534"/>
          <a:stretch/>
        </p:blipFill>
        <p:spPr>
          <a:xfrm>
            <a:off x="762120" y="1752480"/>
            <a:ext cx="784836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 Marti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)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Formulieren Sie ein Entscheidungsmodell, mit dessen Hilfe die kostenminimale Belieferung der Nachfrager ermittelt werden kann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Definition Variabl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i=1,2,3 --&gt; Anbiet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j=1,2,3,4 --&gt; Nachfrag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de-DE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= transportierte Menge von Anbieter i nach Nachfrager 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NNB: X</a:t>
            </a:r>
            <a:r>
              <a:rPr b="0" lang="de-DE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 &lt;=0 , ganzzahli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 Marti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)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Formulieren Sie ein Entscheidungsmodell, mit dessen Hilfe die kostenminimale Belieferung der Nachfrager ermittelt werden kann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LP-Ansatz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ZF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5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11 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+ 3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12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4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13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5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14</a:t>
            </a:r>
            <a:br>
              <a:rPr sz="2000"/>
            </a:b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+ 2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21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7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22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3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23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8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+ 4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31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1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32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2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33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4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34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--&gt; MIN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Restriktione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A1: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11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12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13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14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  = 7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A2: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21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22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23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24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  = 5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A3: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31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32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33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34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  = 8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N1: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11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21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31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        &lt;= 6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N2: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12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22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32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        &lt;= 5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N3: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13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23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33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        &lt;= 7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N4: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14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24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+ X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34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         &lt;= 40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 Marti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)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Formulieren Sie ein Entscheidungsmodell, mit dessen Hilfe die kostenminimale Belieferung der Nachfrager ermittelt werden kann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Lösung XA-Solve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rcRect l="1153" t="10737" r="5611" b="8725"/>
          <a:stretch/>
        </p:blipFill>
        <p:spPr>
          <a:xfrm>
            <a:off x="1066680" y="2209680"/>
            <a:ext cx="7543800" cy="41911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143000" y="3200400"/>
            <a:ext cx="7162920" cy="914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4267080"/>
            <a:ext cx="7162920" cy="914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5334120"/>
            <a:ext cx="7162920" cy="914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560" y="34290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560" y="449568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dbfd"/>
                </a:solidFill>
                <a:latin typeface="Tahoma"/>
              </a:rPr>
              <a:t>A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560" y="563868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d882"/>
                </a:solidFill>
                <a:latin typeface="Tahoma"/>
              </a:rPr>
              <a:t>A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36840" y="32004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89f7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36840" y="42670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89f7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36840" y="36576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89f7"/>
                </a:solidFill>
                <a:latin typeface="Tahoma"/>
              </a:rPr>
              <a:t>N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36840" y="57913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89f7"/>
                </a:solidFill>
                <a:latin typeface="Tahoma"/>
              </a:rPr>
              <a:t>N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94440" y="36576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89f7"/>
                </a:solidFill>
                <a:latin typeface="Tahoma"/>
              </a:rPr>
              <a:t>N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94440" y="53341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89f7"/>
                </a:solidFill>
                <a:latin typeface="Tahoma"/>
              </a:rPr>
              <a:t>N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 Marti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b) </a:t>
            </a:r>
            <a:r>
              <a:rPr b="0" lang="de-DE" sz="2400" spc="-1" strike="noStrike">
                <a:solidFill>
                  <a:srgbClr val="660066"/>
                </a:solidFill>
                <a:latin typeface="Tahoma"/>
              </a:rPr>
              <a:t>Gilt für das Modell natürliche Ganzzahligkeit? Warum?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f89f7"/>
                </a:solidFill>
                <a:latin typeface="Tahoma"/>
              </a:rPr>
              <a:t>JA</a:t>
            </a: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Die Elemente des </a:t>
            </a:r>
            <a:r>
              <a:rPr b="0" lang="de-DE" sz="2000" spc="-1" strike="noStrike">
                <a:solidFill>
                  <a:srgbClr val="ecd882"/>
                </a:solidFill>
                <a:latin typeface="Tahoma"/>
              </a:rPr>
              <a:t>Vektors b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sind ganze Zahlen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Jeder </a:t>
            </a:r>
            <a:r>
              <a:rPr b="0" lang="de-DE" sz="2000" spc="-1" strike="noStrike">
                <a:solidFill>
                  <a:srgbClr val="b2b2b2"/>
                </a:solidFill>
                <a:latin typeface="Tahoma"/>
              </a:rPr>
              <a:t>Spaltenvektor a</a:t>
            </a:r>
            <a:r>
              <a:rPr b="0" lang="de-DE" sz="2000" spc="-1" strike="noStrike" baseline="-25000">
                <a:solidFill>
                  <a:srgbClr val="b2b2b2"/>
                </a:solidFill>
                <a:latin typeface="Tahoma"/>
              </a:rPr>
              <a:t>j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der Matrix A mit den Elementen a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(i=1,2,...,m) enthält höchstens zwei von Null verschiedene Elemente a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, die nur den Wert +1 oder –1 haben, un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Die Zeilen von A könne derart in zwei </a:t>
            </a:r>
            <a:r>
              <a:rPr b="0" lang="de-DE" sz="2000" spc="-1" strike="noStrike">
                <a:solidFill>
                  <a:srgbClr val="00cc00"/>
                </a:solidFill>
                <a:latin typeface="Tahoma"/>
              </a:rPr>
              <a:t>Mengen M</a:t>
            </a:r>
            <a:r>
              <a:rPr b="0" lang="de-DE" sz="2000" spc="-1" strike="noStrike" baseline="-25000">
                <a:solidFill>
                  <a:srgbClr val="00cc00"/>
                </a:solidFill>
                <a:latin typeface="Tahoma"/>
              </a:rPr>
              <a:t>1</a:t>
            </a:r>
            <a:r>
              <a:rPr b="0" lang="de-DE" sz="2000" spc="-1" strike="noStrike">
                <a:solidFill>
                  <a:srgbClr val="00cc00"/>
                </a:solidFill>
                <a:latin typeface="Tahoma"/>
              </a:rPr>
              <a:t> und M</a:t>
            </a:r>
            <a:r>
              <a:rPr b="0" lang="de-DE" sz="2000" spc="-1" strike="noStrike" baseline="-25000">
                <a:solidFill>
                  <a:srgbClr val="00cc00"/>
                </a:solidFill>
                <a:latin typeface="Tahoma"/>
              </a:rPr>
              <a:t>2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zusammengefasst werden, dass gilt:</a:t>
            </a:r>
            <a:br>
              <a:rPr sz="2000"/>
            </a:br>
            <a:r>
              <a:rPr b="0" lang="de-DE" sz="2000" spc="-1" strike="noStrike">
                <a:solidFill>
                  <a:srgbClr val="40458c"/>
                </a:solidFill>
                <a:latin typeface="Symbol"/>
                <a:ea typeface="Symbol"/>
              </a:rPr>
              <a:t>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a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= </a:t>
            </a:r>
            <a:r>
              <a:rPr b="0" lang="de-DE" sz="2000" spc="-1" strike="noStrike">
                <a:solidFill>
                  <a:srgbClr val="40458c"/>
                </a:solidFill>
                <a:latin typeface="Symbol"/>
                <a:ea typeface="Symbol"/>
              </a:rPr>
              <a:t>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a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(für alle j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1439280" y="4343400"/>
            <a:ext cx="517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n-US" sz="1200" spc="-1" strike="noStrike">
                <a:solidFill>
                  <a:srgbClr val="40458c"/>
                </a:solidFill>
                <a:latin typeface="Symbol"/>
                <a:ea typeface="Symbol"/>
              </a:rPr>
              <a:t>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M</a:t>
            </a:r>
            <a:r>
              <a:rPr b="0" lang="en-US" sz="12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77360" y="4343400"/>
            <a:ext cx="517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n-US" sz="1200" spc="-1" strike="noStrike">
                <a:solidFill>
                  <a:srgbClr val="40458c"/>
                </a:solidFill>
                <a:latin typeface="Symbol"/>
                <a:ea typeface="Symbol"/>
              </a:rPr>
              <a:t>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M</a:t>
            </a:r>
            <a:r>
              <a:rPr b="0" lang="en-US" sz="1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4114800"/>
            <a:ext cx="39625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40458c"/>
                </a:solidFill>
                <a:latin typeface="Tahoma"/>
              </a:rPr>
              <a:t>Hinreichendes </a:t>
            </a:r>
            <a:r>
              <a:rPr b="1" lang="de-DE" sz="1000" spc="-1" strike="noStrike">
                <a:solidFill>
                  <a:srgbClr val="40458c"/>
                </a:solidFill>
                <a:latin typeface="Tahoma"/>
              </a:rPr>
              <a:t>Kriterium für natürliche Ganzzahligkeit</a:t>
            </a:r>
            <a:r>
              <a:rPr b="0" lang="de-DE" sz="10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1000"/>
            </a:br>
            <a:r>
              <a:rPr b="0" lang="de-DE" sz="1000" spc="-1" strike="noStrike">
                <a:solidFill>
                  <a:srgbClr val="40458c"/>
                </a:solidFill>
                <a:latin typeface="Tahoma"/>
              </a:rPr>
              <a:t>[Hu 1969, S. 126ff.] (Zitat Meyer/Hansen, Planungsverfahren des Operations Research 3. Auflage, Verlag Franz Vahlen GmbH, 1985)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rcRect l="1562" t="26344" r="25003" b="51077"/>
          <a:stretch/>
        </p:blipFill>
        <p:spPr>
          <a:xfrm>
            <a:off x="1066680" y="4800600"/>
            <a:ext cx="7162920" cy="1600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620120" y="5181480"/>
            <a:ext cx="609480" cy="129564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1295640"/>
              <a:gd name="textAreaBottom" fmla="*/ 1266120 h 1295640"/>
            </a:gdLst>
            <a:ahLst/>
            <a:rect l="textAreaLeft" t="textAreaTop" r="textAreaRight" b="textAreaBottom"/>
            <a:pathLst>
              <a:path w="21600" h="45903">
                <a:moveTo>
                  <a:pt x="3600" y="0"/>
                </a:moveTo>
                <a:arcTo wR="3600" hR="3600" stAng="16200000" swAng="-5400000"/>
                <a:lnTo>
                  <a:pt x="0" y="42303"/>
                </a:lnTo>
                <a:arcTo wR="3600" hR="3600" stAng="10800000" swAng="-5400000"/>
                <a:lnTo>
                  <a:pt x="18000" y="459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43200" y="5105520"/>
            <a:ext cx="609480" cy="121896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1218960"/>
              <a:gd name="textAreaBottom" fmla="*/ 1189440 h 1218960"/>
            </a:gdLst>
            <a:ahLst/>
            <a:rect l="textAreaLeft" t="textAreaTop" r="textAreaRight" b="textAreaBottom"/>
            <a:pathLst>
              <a:path w="21600" h="43187">
                <a:moveTo>
                  <a:pt x="3600" y="0"/>
                </a:moveTo>
                <a:arcTo wR="3600" hR="3600" stAng="16200000" swAng="-5400000"/>
                <a:lnTo>
                  <a:pt x="0" y="39587"/>
                </a:lnTo>
                <a:arcTo wR="3600" hR="3600" stAng="10800000" swAng="-5400000"/>
                <a:lnTo>
                  <a:pt x="18000" y="43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905120" y="5105520"/>
            <a:ext cx="5486400" cy="1295280"/>
            <a:chOff x="1905120" y="5105520"/>
            <a:chExt cx="5486400" cy="1295280"/>
          </a:xfrm>
        </p:grpSpPr>
        <p:sp>
          <p:nvSpPr>
            <p:cNvPr id="240" name=""/>
            <p:cNvSpPr/>
            <p:nvPr/>
          </p:nvSpPr>
          <p:spPr>
            <a:xfrm>
              <a:off x="4648320" y="5105520"/>
              <a:ext cx="2743200" cy="1295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05120" y="5105520"/>
              <a:ext cx="2743200" cy="1295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276720" y="5105520"/>
            <a:ext cx="609480" cy="121896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1218960"/>
              <a:gd name="textAreaBottom" fmla="*/ 1189440 h 1218960"/>
            </a:gdLst>
            <a:ahLst/>
            <a:rect l="textAreaLeft" t="textAreaTop" r="textAreaRight" b="textAreaBottom"/>
            <a:pathLst>
              <a:path w="21600" h="43187">
                <a:moveTo>
                  <a:pt x="3600" y="0"/>
                </a:moveTo>
                <a:arcTo wR="3600" hR="3600" stAng="16200000" swAng="-5400000"/>
                <a:lnTo>
                  <a:pt x="0" y="39587"/>
                </a:lnTo>
                <a:arcTo wR="3600" hR="3600" stAng="10800000" swAng="-5400000"/>
                <a:lnTo>
                  <a:pt x="18000" y="43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5105520"/>
            <a:ext cx="609480" cy="121896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1218960"/>
              <a:gd name="textAreaBottom" fmla="*/ 1189440 h 1218960"/>
            </a:gdLst>
            <a:ahLst/>
            <a:rect l="textAreaLeft" t="textAreaTop" r="textAreaRight" b="textAreaBottom"/>
            <a:pathLst>
              <a:path w="21600" h="43187">
                <a:moveTo>
                  <a:pt x="3600" y="0"/>
                </a:moveTo>
                <a:arcTo wR="3600" hR="3600" stAng="16200000" swAng="-5400000"/>
                <a:lnTo>
                  <a:pt x="0" y="39587"/>
                </a:lnTo>
                <a:arcTo wR="3600" hR="3600" stAng="10800000" swAng="-5400000"/>
                <a:lnTo>
                  <a:pt x="18000" y="43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5120" y="5105520"/>
            <a:ext cx="5486400" cy="1295280"/>
            <a:chOff x="1905120" y="5105520"/>
            <a:chExt cx="5486400" cy="1295280"/>
          </a:xfrm>
        </p:grpSpPr>
        <p:sp>
          <p:nvSpPr>
            <p:cNvPr id="245" name=""/>
            <p:cNvSpPr/>
            <p:nvPr/>
          </p:nvSpPr>
          <p:spPr>
            <a:xfrm>
              <a:off x="1905120" y="5638680"/>
              <a:ext cx="5486400" cy="7621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05120" y="5105520"/>
              <a:ext cx="5486400" cy="6094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 Marti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)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Geben Sie für das Problem aus a. eine zulässige Ausgangslösung nach der Nordwestregel a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843120" y="1932120"/>
          <a:ext cx="7351560" cy="44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932120"/>
                    <a:ext cx="735156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 Marti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)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Geben Sie für das Problem aus a. eine zulässige Ausgangslösung nach der Nordwestregel a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ösung „Transportplanung“: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(mit Dummy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828800" y="2133720"/>
            <a:ext cx="5896080" cy="429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 Marti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d) </a:t>
            </a:r>
            <a:r>
              <a:rPr b="0" lang="de-DE" sz="2400" spc="-1" strike="noStrike">
                <a:solidFill>
                  <a:srgbClr val="660066"/>
                </a:solidFill>
                <a:latin typeface="Tahoma"/>
              </a:rPr>
              <a:t>Welche Verfahren für Modelle ohne natürliche Ganzzahligkeit der Lösung, die ganzzahlig gelöste werden müssen, kennen Sie?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Entscheidungsbaumverfahren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(nach Daki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Grütz‘sche-Verfahr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Einsetzen der Zielfunktion als zusätzliche Restriktion mit dem nächsten ganzzahligen Wert im b-Vekto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 Marti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3T11:33:58Z</dcterms:created>
  <dc:creator>Stefan Martin</dc:creator>
  <dc:description/>
  <dc:language>en-US</dc:language>
  <cp:lastModifiedBy>stuempfi</cp:lastModifiedBy>
  <dcterms:modified xsi:type="dcterms:W3CDTF">2000-06-29T10:17:13Z</dcterms:modified>
  <cp:revision>16</cp:revision>
  <dc:subject/>
  <dc:title>Betriebliche Systemforschung</dc:title>
</cp:coreProperties>
</file>