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C11-E314-4542-9D7B-6B53B072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1F9-9219-4BBA-86C8-98CE9BEB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4C4-E8B4-47E5-BD20-740E9B8E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0E3-B76C-4AB0-86E4-BC74B5FB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C646-A883-479B-82E1-46DAEF9B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9D41-98C2-4E82-AA5B-B94F1AAC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C388-6679-4EB4-A32D-AB852011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638F-9E54-46EF-8346-6642E1C3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0C91-BFA6-49C0-B3CD-1B9CCAFE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DCFD-1FC8-424A-8D9F-E28A76D7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DB95-3D68-4595-9003-6FDE10B6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6C0-C015-407B-9BCA-95068205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946E-FAEE-4FF8-8751-298B8509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7A4E-AA9E-474C-9E02-8415BFC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19C0-A461-4682-AE96-005244BE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7151-481D-4FB9-8350-1D3DA64A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C52C-3D50-455F-9879-B7748D07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A62-C296-468C-BDCB-9364D042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30E-F48B-4E66-B39E-0752F9D6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7B2-81B4-4FA3-A9D2-AE925771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1BF-3BED-4063-A653-98750F21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E44-6FBB-4821-872E-4874488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EB7-70FE-4259-B005-D05E523C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79A-73BF-4D3A-A60C-7B4BA3D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FC96-3F45-43E3-8CDA-4E12DA3642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9C15-21D1-401F-B337-5818F4B6BD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fgabe  45    Teil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057400"/>
            <a:ext cx="8001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gabenstellung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egeben sei folgendes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nzzahliges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LP-Mode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&lt;= 20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+ 3X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&lt;=12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max</a:t>
            </a:r>
            <a:br>
              <a:rPr sz="1600"/>
            </a:b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&gt;= 0 und ganzzahl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) Wann ist es nötig das Dakin Verfahren einzusetzten?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) Beschreiben Sie das Verfahren anhand des gegebenen Beispiels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) Zeigen Sie graphisch wie der Lösungsraum nach dem 1. Branch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aussieht.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579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590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lt;=1;x2&lt;=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604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609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612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615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618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621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624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627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630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633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636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639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642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600200" y="4723560"/>
            <a:ext cx="127080" cy="127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752480" y="40384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649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652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655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658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661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662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672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lt;=1;x2&gt;=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686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691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694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697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700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703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706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709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712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715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718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721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724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295280" y="4342680"/>
            <a:ext cx="127080" cy="127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473120" y="4038480"/>
            <a:ext cx="12700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731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732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742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1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gt;=3;x2&lt;=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756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761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764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767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770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773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776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779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782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785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788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791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794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514600" y="5485680"/>
            <a:ext cx="127080" cy="127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,2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590560" y="4038480"/>
            <a:ext cx="152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801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804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807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808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818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7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lt;=3;x2&lt;=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832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837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840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843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846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849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852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855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858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861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864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867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870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2362320" y="5485680"/>
            <a:ext cx="126720" cy="127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2437920" y="4038480"/>
            <a:ext cx="304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877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880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883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884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894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3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gt;=4;x2&lt;=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908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913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916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919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922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925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928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931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934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937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940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943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946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2743200" y="5791320"/>
            <a:ext cx="127080" cy="12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743200" y="4038480"/>
            <a:ext cx="76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953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956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für ein LP-Modell Ganzzahligkeit gefordert und die Simplex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hode liefert keine ganzzahlige Lösung, so kann mit d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sbaumverfahren nach Dakin die „optimale“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nzzahlige Lösung ermittel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ntscheidungsbaum (Dak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75248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,71   Z=4,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,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05740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05740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514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       Z=4,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3,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25146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      Z=4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4290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,4   Z=4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429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t lösba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343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3       Z=4,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,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343400"/>
            <a:ext cx="12193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   Z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518148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3,2   Z=4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518148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t lös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6019920"/>
            <a:ext cx="12193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4   Z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6019920"/>
            <a:ext cx="121896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3   Z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8" idx="2"/>
            <a:endCxn id="92" idx="0"/>
          </p:cNvCxnSpPr>
          <p:nvPr/>
        </p:nvCxnSpPr>
        <p:spPr>
          <a:xfrm flipH="1" rot="16200000">
            <a:off x="5409000" y="1294920"/>
            <a:ext cx="305640" cy="2134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2"/>
            <a:endCxn id="91" idx="0"/>
          </p:cNvCxnSpPr>
          <p:nvPr/>
        </p:nvCxnSpPr>
        <p:spPr>
          <a:xfrm rot="5400000">
            <a:off x="3085200" y="1104480"/>
            <a:ext cx="305640" cy="251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2" idx="2"/>
            <a:endCxn id="94" idx="0"/>
          </p:cNvCxnSpPr>
          <p:nvPr/>
        </p:nvCxnSpPr>
        <p:spPr>
          <a:xfrm flipH="1" rot="16200000">
            <a:off x="7161840" y="2438280"/>
            <a:ext cx="457920" cy="15246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2" idx="2"/>
            <a:endCxn id="93" idx="0"/>
          </p:cNvCxnSpPr>
          <p:nvPr/>
        </p:nvCxnSpPr>
        <p:spPr>
          <a:xfrm rot="5400000">
            <a:off x="5485680" y="2286000"/>
            <a:ext cx="457920" cy="1829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2"/>
            <a:endCxn id="96" idx="0"/>
          </p:cNvCxnSpPr>
          <p:nvPr/>
        </p:nvCxnSpPr>
        <p:spPr>
          <a:xfrm rot="5400000">
            <a:off x="4037760" y="3581280"/>
            <a:ext cx="457920" cy="10674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3" idx="2"/>
            <a:endCxn id="95" idx="0"/>
          </p:cNvCxnSpPr>
          <p:nvPr/>
        </p:nvCxnSpPr>
        <p:spPr>
          <a:xfrm flipH="1" rot="16200000">
            <a:off x="5257800" y="342864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5" idx="2"/>
            <a:endCxn id="98" idx="0"/>
          </p:cNvCxnSpPr>
          <p:nvPr/>
        </p:nvCxnSpPr>
        <p:spPr>
          <a:xfrm flipH="1" rot="16200000">
            <a:off x="6629400" y="4343040"/>
            <a:ext cx="381600" cy="12960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5" idx="2"/>
            <a:endCxn id="97" idx="0"/>
          </p:cNvCxnSpPr>
          <p:nvPr/>
        </p:nvCxnSpPr>
        <p:spPr>
          <a:xfrm rot="5400000">
            <a:off x="5295240" y="4305240"/>
            <a:ext cx="381600" cy="137232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7" idx="2"/>
            <a:endCxn id="99" idx="0"/>
          </p:cNvCxnSpPr>
          <p:nvPr/>
        </p:nvCxnSpPr>
        <p:spPr>
          <a:xfrm flipH="1" rot="16200000">
            <a:off x="5257440" y="5181120"/>
            <a:ext cx="381960" cy="1296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7" idx="2"/>
            <a:endCxn id="100" idx="0"/>
          </p:cNvCxnSpPr>
          <p:nvPr/>
        </p:nvCxnSpPr>
        <p:spPr>
          <a:xfrm rot="5400000">
            <a:off x="3923640" y="5143320"/>
            <a:ext cx="38196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4876920" y="289548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289548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380988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80988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64832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464832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48640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548640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429000"/>
            <a:ext cx="121932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0      Z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429000"/>
            <a:ext cx="121896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   Z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91" idx="2"/>
            <a:endCxn id="120" idx="0"/>
          </p:cNvCxnSpPr>
          <p:nvPr/>
        </p:nvCxnSpPr>
        <p:spPr>
          <a:xfrm rot="5400000">
            <a:off x="1218240" y="2666880"/>
            <a:ext cx="457920" cy="10674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 flipH="1" rot="16200000">
            <a:off x="2438280" y="251424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685800" y="289548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895480"/>
            <a:ext cx="1371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900" spc="-1" strike="noStrike" baseline="-2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126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137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mögliche Lösungen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151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156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159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162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165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168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171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174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177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180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183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186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189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193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196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199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200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210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lt;=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224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229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232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235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238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241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244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247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250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253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256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259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262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12800" y="4545720"/>
            <a:ext cx="127080" cy="127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,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752480" y="4114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269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272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275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276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286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gt;=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300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305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308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311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314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317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320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323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326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329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332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335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338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981080" y="4876920"/>
            <a:ext cx="127080" cy="12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108160" y="4038480"/>
            <a:ext cx="63504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345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348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351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352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362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gt;=2;x2&lt;=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376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381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384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387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390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393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396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399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402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405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408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411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414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209680" y="5105520"/>
            <a:ext cx="127080" cy="12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,4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286000" y="4038480"/>
            <a:ext cx="457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421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424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427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428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438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lt;=2;x2&lt;=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452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457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460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463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466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469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472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475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478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481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484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487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490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1981080" y="5105520"/>
            <a:ext cx="127080" cy="12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057040" y="41148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497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500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1295280" y="2666880"/>
            <a:ext cx="3276720" cy="3276720"/>
            <a:chOff x="1295280" y="2666880"/>
            <a:chExt cx="3276720" cy="3276720"/>
          </a:xfrm>
        </p:grpSpPr>
        <p:grpSp>
          <p:nvGrpSpPr>
            <p:cNvPr id="503" name=""/>
            <p:cNvGrpSpPr/>
            <p:nvPr/>
          </p:nvGrpSpPr>
          <p:grpSpPr>
            <a:xfrm>
              <a:off x="1371600" y="5791320"/>
              <a:ext cx="3200400" cy="152280"/>
              <a:chOff x="1371600" y="5791320"/>
              <a:chExt cx="3200400" cy="152280"/>
            </a:xfrm>
          </p:grpSpPr>
          <p:sp>
            <p:nvSpPr>
              <p:cNvPr id="504" name=""/>
              <p:cNvSpPr/>
              <p:nvPr/>
            </p:nvSpPr>
            <p:spPr>
              <a:xfrm>
                <a:off x="1676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58672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057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38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19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00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58128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6252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43400" y="5791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295280" y="2666880"/>
              <a:ext cx="152280" cy="3200400"/>
              <a:chOff x="1295280" y="2666880"/>
              <a:chExt cx="152280" cy="3200400"/>
            </a:xfrm>
          </p:grpSpPr>
          <p:sp>
            <p:nvSpPr>
              <p:cNvPr id="514" name=""/>
              <p:cNvSpPr/>
              <p:nvPr/>
            </p:nvSpPr>
            <p:spPr>
              <a:xfrm>
                <a:off x="12952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1371240" y="266688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295280" y="5181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295280" y="4800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295280" y="4419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9528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295280" y="3657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295280" y="3276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295280" y="2895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isch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x1&gt;=3;x2&lt;=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3808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295280" y="5791320"/>
            <a:ext cx="152640" cy="152280"/>
            <a:chOff x="1295280" y="5791320"/>
            <a:chExt cx="152640" cy="152280"/>
          </a:xfrm>
        </p:grpSpPr>
        <p:sp>
          <p:nvSpPr>
            <p:cNvPr id="528" name=""/>
            <p:cNvSpPr/>
            <p:nvPr/>
          </p:nvSpPr>
          <p:spPr>
            <a:xfrm>
              <a:off x="12952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716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905040" y="3429000"/>
            <a:ext cx="2466720" cy="3133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14400" y="4114800"/>
            <a:ext cx="3352680" cy="220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295280" y="5486400"/>
            <a:ext cx="152640" cy="152280"/>
            <a:chOff x="1295280" y="5486400"/>
            <a:chExt cx="152640" cy="152280"/>
          </a:xfrm>
        </p:grpSpPr>
        <p:sp>
          <p:nvSpPr>
            <p:cNvPr id="533" name=""/>
            <p:cNvSpPr/>
            <p:nvPr/>
          </p:nvSpPr>
          <p:spPr>
            <a:xfrm>
              <a:off x="12952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295280" y="5105520"/>
            <a:ext cx="152640" cy="152280"/>
            <a:chOff x="1295280" y="5105520"/>
            <a:chExt cx="152640" cy="152280"/>
          </a:xfrm>
        </p:grpSpPr>
        <p:sp>
          <p:nvSpPr>
            <p:cNvPr id="536" name=""/>
            <p:cNvSpPr/>
            <p:nvPr/>
          </p:nvSpPr>
          <p:spPr>
            <a:xfrm>
              <a:off x="12952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716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1295280" y="4724280"/>
            <a:ext cx="152640" cy="152280"/>
            <a:chOff x="1295280" y="4724280"/>
            <a:chExt cx="152640" cy="152280"/>
          </a:xfrm>
        </p:grpSpPr>
        <p:sp>
          <p:nvSpPr>
            <p:cNvPr id="539" name=""/>
            <p:cNvSpPr/>
            <p:nvPr/>
          </p:nvSpPr>
          <p:spPr>
            <a:xfrm>
              <a:off x="1295280" y="480024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7160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600200" y="5486400"/>
            <a:ext cx="152280" cy="152280"/>
            <a:chOff x="1600200" y="5486400"/>
            <a:chExt cx="152280" cy="152280"/>
          </a:xfrm>
        </p:grpSpPr>
        <p:sp>
          <p:nvSpPr>
            <p:cNvPr id="542" name=""/>
            <p:cNvSpPr/>
            <p:nvPr/>
          </p:nvSpPr>
          <p:spPr>
            <a:xfrm>
              <a:off x="160020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7616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81080" y="5486400"/>
            <a:ext cx="152640" cy="152280"/>
            <a:chOff x="1981080" y="5486400"/>
            <a:chExt cx="152640" cy="152280"/>
          </a:xfrm>
        </p:grpSpPr>
        <p:sp>
          <p:nvSpPr>
            <p:cNvPr id="545" name=""/>
            <p:cNvSpPr/>
            <p:nvPr/>
          </p:nvSpPr>
          <p:spPr>
            <a:xfrm>
              <a:off x="1981080" y="5562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5740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362320" y="5486400"/>
            <a:ext cx="152280" cy="152280"/>
            <a:chOff x="2362320" y="5486400"/>
            <a:chExt cx="152280" cy="152280"/>
          </a:xfrm>
        </p:grpSpPr>
        <p:sp>
          <p:nvSpPr>
            <p:cNvPr id="548" name=""/>
            <p:cNvSpPr/>
            <p:nvPr/>
          </p:nvSpPr>
          <p:spPr>
            <a:xfrm>
              <a:off x="2362320" y="55623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5486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981080" y="5791320"/>
            <a:ext cx="152640" cy="152280"/>
            <a:chOff x="1981080" y="5791320"/>
            <a:chExt cx="152640" cy="152280"/>
          </a:xfrm>
        </p:grpSpPr>
        <p:sp>
          <p:nvSpPr>
            <p:cNvPr id="551" name=""/>
            <p:cNvSpPr/>
            <p:nvPr/>
          </p:nvSpPr>
          <p:spPr>
            <a:xfrm>
              <a:off x="1981080" y="58672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05740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600200" y="5791320"/>
            <a:ext cx="152280" cy="152280"/>
            <a:chOff x="1600200" y="5791320"/>
            <a:chExt cx="152280" cy="152280"/>
          </a:xfrm>
        </p:grpSpPr>
        <p:sp>
          <p:nvSpPr>
            <p:cNvPr id="554" name=""/>
            <p:cNvSpPr/>
            <p:nvPr/>
          </p:nvSpPr>
          <p:spPr>
            <a:xfrm>
              <a:off x="1600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76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362320" y="5791320"/>
            <a:ext cx="152280" cy="152280"/>
            <a:chOff x="2362320" y="5791320"/>
            <a:chExt cx="152280" cy="152280"/>
          </a:xfrm>
        </p:grpSpPr>
        <p:sp>
          <p:nvSpPr>
            <p:cNvPr id="557" name=""/>
            <p:cNvSpPr/>
            <p:nvPr/>
          </p:nvSpPr>
          <p:spPr>
            <a:xfrm>
              <a:off x="236232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43828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981080" y="5105520"/>
            <a:ext cx="152640" cy="152280"/>
            <a:chOff x="1981080" y="5105520"/>
            <a:chExt cx="152640" cy="152280"/>
          </a:xfrm>
        </p:grpSpPr>
        <p:sp>
          <p:nvSpPr>
            <p:cNvPr id="560" name=""/>
            <p:cNvSpPr/>
            <p:nvPr/>
          </p:nvSpPr>
          <p:spPr>
            <a:xfrm>
              <a:off x="1981080" y="518148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57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563" name=""/>
            <p:cNvSpPr/>
            <p:nvPr/>
          </p:nvSpPr>
          <p:spPr>
            <a:xfrm>
              <a:off x="1600200" y="51814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761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600200" y="4724280"/>
            <a:ext cx="152280" cy="152280"/>
            <a:chOff x="1600200" y="4724280"/>
            <a:chExt cx="152280" cy="152280"/>
          </a:xfrm>
        </p:grpSpPr>
        <p:sp>
          <p:nvSpPr>
            <p:cNvPr id="566" name=""/>
            <p:cNvSpPr/>
            <p:nvPr/>
          </p:nvSpPr>
          <p:spPr>
            <a:xfrm>
              <a:off x="1600200" y="480024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761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76120" y="4743360"/>
            <a:ext cx="1924200" cy="2000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362320" y="5334120"/>
            <a:ext cx="126720" cy="12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43200" y="3886200"/>
            <a:ext cx="1828800" cy="38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;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,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437920" y="4038480"/>
            <a:ext cx="30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295280" y="4343400"/>
            <a:ext cx="152640" cy="152280"/>
            <a:chOff x="1295280" y="4343400"/>
            <a:chExt cx="152640" cy="152280"/>
          </a:xfrm>
        </p:grpSpPr>
        <p:sp>
          <p:nvSpPr>
            <p:cNvPr id="573" name=""/>
            <p:cNvSpPr/>
            <p:nvPr/>
          </p:nvSpPr>
          <p:spPr>
            <a:xfrm>
              <a:off x="1295280" y="44193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71600" y="43434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743200" y="5791320"/>
            <a:ext cx="152280" cy="152280"/>
            <a:chOff x="2743200" y="5791320"/>
            <a:chExt cx="152280" cy="152280"/>
          </a:xfrm>
        </p:grpSpPr>
        <p:sp>
          <p:nvSpPr>
            <p:cNvPr id="576" name=""/>
            <p:cNvSpPr/>
            <p:nvPr/>
          </p:nvSpPr>
          <p:spPr>
            <a:xfrm>
              <a:off x="2743200" y="586728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19160" y="5791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7:31:19Z</dcterms:created>
  <dc:creator>Administrator</dc:creator>
  <dc:description/>
  <dc:language>en-US</dc:language>
  <cp:lastModifiedBy>Administrator</cp:lastModifiedBy>
  <cp:lastPrinted>2000-01-12T23:34:31Z</cp:lastPrinted>
  <dcterms:modified xsi:type="dcterms:W3CDTF">2000-01-13T17:51:53Z</dcterms:modified>
  <cp:revision>28</cp:revision>
  <dc:subject/>
  <dc:title>Aufgabe 26      Teil 3</dc:title>
</cp:coreProperties>
</file>