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FB6-F7DB-4A6C-B024-2C36C5D3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DA0-76FB-492B-BB1E-359E0E3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A31-FECE-4D56-9387-79745D0A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EC0-157E-4DA7-B276-2D4D7B5F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0B66-A8B5-420A-AB69-7D4EBD16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DA9D-BC1B-476C-83FF-4C43EC22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258F-F561-458B-905C-F1F1B5A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3BF-9253-4F01-8619-DF4199A3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1AB-F566-4A19-871B-2EF4742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816-61A0-45AD-9E8F-73BA75C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DA8E-2E8A-409B-8735-3CCB37F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C4C-2A81-4A6C-B6DA-F261707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602-14CD-493C-85F9-EA8E097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18EC-4898-4873-B0B2-6EBE14C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9A2-0F1B-4B8F-AD25-68F9350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D51-516D-4AC9-891E-1261BBF1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4662-8B98-43F2-AE23-138379F0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422-4A21-4728-A2F6-74779B9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AF3-F7FB-4B3F-91B1-B837033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E9F-0565-4A68-8B10-48353398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C54-75D1-47A5-8F54-DB25323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B97-D892-4000-8445-A529591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2F4-31F3-4E8F-80B1-27059D8B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E57-4CF0-438E-9822-51AD4E3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BE5-63C3-44A7-97E4-317B6127F9B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35812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Times New Roman"/>
              </a:rPr>
              <a:t>Thorsten Wank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Times New Roman"/>
              </a:rPr>
              <a:t>Aufgabe 3-2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Times New Roman"/>
              </a:rPr>
              <a:t>11. Mai 2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38600" y="661176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6213-17EA-42FD-9C2D-A5DDEAEDDCBB}" type="slidenum">
              <a:rPr b="0" lang="de-DE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06A-5858-4016-8E73-2CC1994C598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eil 3, Aufgabe 4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Dakin-Verfahr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) Einsatz des Dakin-Verfahr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Das Dakin-Verfahren wird bei der ganzzahligen Programmierung eingesetzt. Hierbei wird sukzessiv eine begrenzte Anzahl nicht-ganzzahliger LP-Modelle gelöst. Man nennt dies auch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Relaxierung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 der Ganzzahligkeitsbedingu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) Beispi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990720"/>
            <a:ext cx="1295280" cy="10908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Z  = 4,571</a:t>
            </a:r>
            <a:br>
              <a:rPr sz="2000"/>
            </a:b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 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= 1,714</a:t>
            </a:r>
            <a:br>
              <a:rPr sz="2000"/>
            </a:b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= 2,85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9880" y="2057400"/>
            <a:ext cx="2057400" cy="1776600"/>
            <a:chOff x="3809880" y="2057400"/>
            <a:chExt cx="2057400" cy="1776600"/>
          </a:xfrm>
        </p:grpSpPr>
        <p:sp>
          <p:nvSpPr>
            <p:cNvPr id="99" name=""/>
            <p:cNvSpPr/>
            <p:nvPr/>
          </p:nvSpPr>
          <p:spPr>
            <a:xfrm>
              <a:off x="3809880" y="2743200"/>
              <a:ext cx="1371600" cy="1090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Z  = 4,3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1 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3,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419360" y="2057400"/>
              <a:ext cx="144792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6520" y="209412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lt;= 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8120" y="3809880"/>
            <a:ext cx="1371240" cy="1776600"/>
            <a:chOff x="3048120" y="3809880"/>
            <a:chExt cx="1371240" cy="1776600"/>
          </a:xfrm>
        </p:grpSpPr>
        <p:sp>
          <p:nvSpPr>
            <p:cNvPr id="103" name=""/>
            <p:cNvSpPr/>
            <p:nvPr/>
          </p:nvSpPr>
          <p:spPr>
            <a:xfrm>
              <a:off x="3048120" y="4495680"/>
              <a:ext cx="1295280" cy="1090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Z  = 4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1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733560" y="3809880"/>
              <a:ext cx="68580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16160" y="392256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lt;= 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67280" y="2057400"/>
            <a:ext cx="2077920" cy="1776600"/>
            <a:chOff x="5867280" y="2057400"/>
            <a:chExt cx="2077920" cy="1776600"/>
          </a:xfrm>
        </p:grpSpPr>
        <p:sp>
          <p:nvSpPr>
            <p:cNvPr id="107" name=""/>
            <p:cNvSpPr/>
            <p:nvPr/>
          </p:nvSpPr>
          <p:spPr>
            <a:xfrm>
              <a:off x="6629040" y="2743200"/>
              <a:ext cx="1295640" cy="1090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Z  = 4,5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2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2,5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67280" y="2057400"/>
              <a:ext cx="144756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1720" y="213372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gt;= 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3809880"/>
            <a:ext cx="1315800" cy="1776600"/>
            <a:chOff x="4419720" y="3809880"/>
            <a:chExt cx="1315800" cy="1776600"/>
          </a:xfrm>
        </p:grpSpPr>
        <p:sp>
          <p:nvSpPr>
            <p:cNvPr id="111" name=""/>
            <p:cNvSpPr/>
            <p:nvPr/>
          </p:nvSpPr>
          <p:spPr>
            <a:xfrm>
              <a:off x="4419720" y="4495680"/>
              <a:ext cx="1219320" cy="1090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Z  = 4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0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3809880"/>
              <a:ext cx="60948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2040" y="396216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gt;= 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219320" y="1295280"/>
            <a:ext cx="23619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Z: 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+ 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Max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: 5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+ 4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&lt;= 2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: 2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 + 3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&lt;= 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, x</a:t>
            </a:r>
            <a:r>
              <a:rPr b="1" lang="de-DE" sz="20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&gt;=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Ganzzahligkeit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3809880"/>
            <a:ext cx="1371240" cy="1776600"/>
            <a:chOff x="5943600" y="3809880"/>
            <a:chExt cx="1371240" cy="1776600"/>
          </a:xfrm>
        </p:grpSpPr>
        <p:sp>
          <p:nvSpPr>
            <p:cNvPr id="116" name=""/>
            <p:cNvSpPr/>
            <p:nvPr/>
          </p:nvSpPr>
          <p:spPr>
            <a:xfrm>
              <a:off x="5943600" y="4495680"/>
              <a:ext cx="1295640" cy="1090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Z  = 4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1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2</a:t>
              </a:r>
              <a:br>
                <a:rPr sz="2000"/>
              </a:b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 </a:t>
              </a: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= 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629040" y="3809880"/>
              <a:ext cx="68580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2000" y="392256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lt;= 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315200" y="3809880"/>
            <a:ext cx="1316160" cy="1546920"/>
            <a:chOff x="7315200" y="3809880"/>
            <a:chExt cx="1316160" cy="1546920"/>
          </a:xfrm>
        </p:grpSpPr>
        <p:sp>
          <p:nvSpPr>
            <p:cNvPr id="120" name=""/>
            <p:cNvSpPr/>
            <p:nvPr/>
          </p:nvSpPr>
          <p:spPr>
            <a:xfrm>
              <a:off x="7315200" y="4495680"/>
              <a:ext cx="1219320" cy="861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aeaea"/>
                  </a:solidFill>
                  <a:latin typeface="Times New Roman"/>
                </a:rPr>
                <a:t>solutio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3809880"/>
              <a:ext cx="609840" cy="68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97880" y="3962160"/>
              <a:ext cx="933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1" lang="de-DE" sz="2000" spc="-1" strike="noStrike" baseline="-25000">
                  <a:solidFill>
                    <a:srgbClr val="eaeaea"/>
                  </a:solidFill>
                  <a:latin typeface="Times New Roman"/>
                </a:rPr>
                <a:t>2</a:t>
              </a:r>
              <a:r>
                <a:rPr b="1" lang="de-DE" sz="2000" spc="-1" strike="noStrike">
                  <a:solidFill>
                    <a:srgbClr val="eaeaea"/>
                  </a:solidFill>
                  <a:latin typeface="Times New Roman"/>
                </a:rPr>
                <a:t> &gt;= 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550920" y="91440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Optimallösu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00400" y="1752480"/>
            <a:ext cx="655560" cy="425160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00600"/>
            <a:ext cx="4419720" cy="60948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) Beispi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762120"/>
            <a:ext cx="27432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Z: 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+ 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Max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: 5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+ 4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&lt;= 2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: 2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 + 3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&lt;= 1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, x</a:t>
            </a:r>
            <a:r>
              <a:rPr b="1" lang="de-DE" sz="18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&gt;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de-DE" sz="1800" spc="-1" strike="noStrike" baseline="-25000">
                <a:solidFill>
                  <a:srgbClr val="ffff00"/>
                </a:solidFill>
                <a:latin typeface="Times New Roman"/>
              </a:rPr>
              <a:t>Opt</a:t>
            </a:r>
            <a:r>
              <a:rPr b="0" lang="de-DE" sz="1800" spc="-1" strike="noStrike">
                <a:solidFill>
                  <a:srgbClr val="ffff00"/>
                </a:solidFill>
                <a:latin typeface="Times New Roman"/>
              </a:rPr>
              <a:t>: x</a:t>
            </a:r>
            <a:r>
              <a:rPr b="1" lang="de-DE" sz="1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00"/>
                </a:solidFill>
                <a:latin typeface="Times New Roman"/>
              </a:rPr>
              <a:t>= 1,714, x</a:t>
            </a:r>
            <a:r>
              <a:rPr b="1" lang="de-DE" sz="18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lang="de-DE" sz="1800" spc="-1" strike="noStrike">
                <a:solidFill>
                  <a:srgbClr val="ffff00"/>
                </a:solidFill>
                <a:latin typeface="Times New Roman"/>
              </a:rPr>
              <a:t>= 2,85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eb00b"/>
                </a:solidFill>
                <a:latin typeface="Times New Roman"/>
              </a:rPr>
              <a:t>L</a:t>
            </a:r>
            <a:r>
              <a:rPr b="1" lang="de-DE" sz="1800" spc="-1" strike="noStrike" baseline="-25000">
                <a:solidFill>
                  <a:srgbClr val="eeb00b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eb00b"/>
                </a:solidFill>
                <a:latin typeface="Times New Roman"/>
              </a:rPr>
              <a:t>: x</a:t>
            </a:r>
            <a:r>
              <a:rPr b="1" lang="de-DE" sz="1800" spc="-1" strike="noStrike" baseline="-25000">
                <a:solidFill>
                  <a:srgbClr val="eeb00b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eeb00b"/>
                </a:solidFill>
                <a:latin typeface="Times New Roman"/>
              </a:rPr>
              <a:t>= 1, x</a:t>
            </a:r>
            <a:r>
              <a:rPr b="1" lang="de-DE" sz="1800" spc="-1" strike="noStrike" baseline="-25000">
                <a:solidFill>
                  <a:srgbClr val="eeb00b"/>
                </a:solidFill>
                <a:latin typeface="Times New Roman"/>
              </a:rPr>
              <a:t>2  </a:t>
            </a:r>
            <a:r>
              <a:rPr b="0" lang="de-DE" sz="1800" spc="-1" strike="noStrike">
                <a:solidFill>
                  <a:srgbClr val="eeb00b"/>
                </a:solidFill>
                <a:latin typeface="Times New Roman"/>
              </a:rPr>
              <a:t>=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de-DE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: x</a:t>
            </a:r>
            <a:r>
              <a:rPr b="1" lang="de-DE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= 0, x</a:t>
            </a:r>
            <a:r>
              <a:rPr b="1" lang="de-DE" sz="1800" spc="-1" strike="noStrike" baseline="-25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=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ff00"/>
                </a:solidFill>
                <a:latin typeface="Times New Roman"/>
              </a:rPr>
              <a:t>L</a:t>
            </a:r>
            <a:r>
              <a:rPr b="1" lang="de-DE" sz="1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ff00"/>
                </a:solidFill>
                <a:latin typeface="Times New Roman"/>
              </a:rPr>
              <a:t>: x</a:t>
            </a:r>
            <a:r>
              <a:rPr b="1" lang="de-DE" sz="18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ff00"/>
                </a:solidFill>
                <a:latin typeface="Times New Roman"/>
              </a:rPr>
              <a:t>= 2, x</a:t>
            </a:r>
            <a:r>
              <a:rPr b="1" lang="de-DE" sz="1800" spc="-1" strike="noStrike" baseline="-25000">
                <a:solidFill>
                  <a:srgbClr val="00ff00"/>
                </a:solidFill>
                <a:latin typeface="Times New Roman"/>
              </a:rPr>
              <a:t>2  </a:t>
            </a:r>
            <a:r>
              <a:rPr b="0" lang="de-DE" sz="1800" spc="-1" strike="noStrike">
                <a:solidFill>
                  <a:srgbClr val="00ff00"/>
                </a:solidFill>
                <a:latin typeface="Times New Roman"/>
              </a:rPr>
              <a:t>=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08200" y="1693800"/>
            <a:ext cx="0" cy="4367160"/>
          </a:xfrm>
          <a:prstGeom prst="line">
            <a:avLst/>
          </a:prstGeom>
          <a:ln cap="sq"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5981760"/>
            <a:ext cx="0" cy="1587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68720" y="5981760"/>
            <a:ext cx="0" cy="1587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7360" y="5981760"/>
            <a:ext cx="0" cy="1587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7440" y="5981760"/>
            <a:ext cx="0" cy="1587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7880" y="5981760"/>
            <a:ext cx="0" cy="1587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2800" y="5423040"/>
            <a:ext cx="184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4600" y="4789440"/>
            <a:ext cx="1839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14600" y="4154400"/>
            <a:ext cx="1839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6040" y="3519360"/>
            <a:ext cx="184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14600" y="2884320"/>
            <a:ext cx="1839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14600" y="2246400"/>
            <a:ext cx="1839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48200" y="1455840"/>
            <a:ext cx="32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de-DE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2120" y="6019920"/>
            <a:ext cx="32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de-DE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82760" y="3281400"/>
            <a:ext cx="4400640" cy="3258720"/>
            <a:chOff x="1382760" y="3281400"/>
            <a:chExt cx="4400640" cy="3258720"/>
          </a:xfrm>
        </p:grpSpPr>
        <p:sp>
          <p:nvSpPr>
            <p:cNvPr id="143" name=""/>
            <p:cNvSpPr/>
            <p:nvPr/>
          </p:nvSpPr>
          <p:spPr>
            <a:xfrm>
              <a:off x="1382760" y="3281400"/>
              <a:ext cx="4253040" cy="29782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2040" y="6203880"/>
              <a:ext cx="351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eaeaea"/>
                  </a:solidFill>
                  <a:latin typeface="Times New Roman"/>
                </a:rPr>
                <a:t>R</a:t>
              </a:r>
              <a:r>
                <a:rPr b="0" lang="de-DE" sz="1400" spc="-1" strike="noStrike" baseline="-25000">
                  <a:solidFill>
                    <a:srgbClr val="eaeaea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438200" y="1930320"/>
            <a:ext cx="3679920" cy="4609800"/>
            <a:chOff x="1438200" y="1930320"/>
            <a:chExt cx="3679920" cy="4609800"/>
          </a:xfrm>
        </p:grpSpPr>
        <p:sp>
          <p:nvSpPr>
            <p:cNvPr id="146" name=""/>
            <p:cNvSpPr/>
            <p:nvPr/>
          </p:nvSpPr>
          <p:spPr>
            <a:xfrm>
              <a:off x="1438200" y="1930320"/>
              <a:ext cx="3382920" cy="43783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6760" y="6203880"/>
              <a:ext cx="351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eaeaea"/>
                  </a:solidFill>
                  <a:latin typeface="Times New Roman"/>
                </a:rPr>
                <a:t>R</a:t>
              </a:r>
              <a:r>
                <a:rPr b="0" lang="de-DE" sz="1400" spc="-1" strike="noStrike" baseline="-25000">
                  <a:solidFill>
                    <a:srgbClr val="eaeaea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797280" y="4446720"/>
            <a:ext cx="0" cy="176364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233000" y="4970520"/>
            <a:ext cx="351324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7560" y="6048360"/>
            <a:ext cx="449604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19320" y="5410080"/>
            <a:ext cx="2743200" cy="0"/>
          </a:xfrm>
          <a:prstGeom prst="line">
            <a:avLst/>
          </a:prstGeom>
          <a:ln w="12600">
            <a:solidFill>
              <a:srgbClr val="eeb00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867280"/>
            <a:ext cx="0" cy="39240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19320" y="6019920"/>
            <a:ext cx="350496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19320" y="4800600"/>
            <a:ext cx="220968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1320" y="4419720"/>
            <a:ext cx="0" cy="176364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5181480"/>
            <a:ext cx="0" cy="1001880"/>
          </a:xfrm>
          <a:prstGeom prst="line">
            <a:avLst/>
          </a:prstGeom>
          <a:ln w="12600">
            <a:solidFill>
              <a:srgbClr val="eeb00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EN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08:30:52Z</dcterms:created>
  <dc:creator>WT</dc:creator>
  <dc:description/>
  <dc:language>en-US</dc:language>
  <cp:lastModifiedBy>w1anka</cp:lastModifiedBy>
  <dcterms:modified xsi:type="dcterms:W3CDTF">2000-05-18T13:26:31Z</dcterms:modified>
  <cp:revision>22</cp:revision>
  <dc:subject/>
  <dc:title>Teil 3, Aufgabe 44</dc:title>
</cp:coreProperties>
</file>