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E43-1E3B-44FA-BFB7-24FC5E29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BFE-8BCA-4AC1-B4A6-1B930E57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5B4-DCC3-4740-B114-F0371C8D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C2E-7363-4EE6-8B36-DCE667B9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53A-D8CF-42B9-82C1-9AFE4E1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53B-E2F2-4CA3-A9BD-1F790D92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DBA-259D-4698-86C5-A198D169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FDE-9D8B-4EB5-99A8-2B350E4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032-1F99-4098-AB7A-753DFC9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280-A943-4BAA-AAD3-C737278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A11-9984-47B8-85B4-F50A734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CA7-33C4-424B-91BC-3613CC7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E34E-9F3C-47A4-BCBE-94EF3A67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228600"/>
            <a:ext cx="8077320" cy="838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                                   Aufgabenteil 1, Aufgabe 8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effen Ri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295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hstoff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. Beschaffung (ME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8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954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sten pro ME in DM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7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-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8600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arbeit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71440" y="2438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438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695000">
            <a:off x="3048480" y="23997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617800">
            <a:off x="3885480" y="2437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291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5304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7440" y="313704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wischenproduk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00440" y="2438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2438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3412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5684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695000">
            <a:off x="6401160" y="24375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617800">
            <a:off x="7301880" y="24508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320" y="3772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edelungs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sten (DM/M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43120" y="3984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54920" y="3975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5520" y="53341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ertigprodukt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129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4419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343400" y="4419720"/>
            <a:ext cx="1981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7000" y="48387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11040" y="57913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" y="58294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trag pro ME in D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581280"/>
            <a:ext cx="1371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3580920"/>
            <a:ext cx="19810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0880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272600">
            <a:off x="6706440" y="4342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840400">
            <a:off x="4418640" y="41144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81280"/>
            <a:ext cx="3124080" cy="16765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696080" y="3657240"/>
            <a:ext cx="152640" cy="16002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11800">
            <a:off x="5333040" y="3809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1600">
            <a:off x="754380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39120" y="53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07400" y="57913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12520" y="57913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6960" y="14479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ierung des LP-Mode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54160" y="1981080"/>
            <a:ext cx="683568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 X  die Produktionsmenge (ME) des Produkt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&g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lfunktion (durch ables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700x1 – 1000x2 – 200x3 – 100x4 + 900x7 + 1200x8 + 1000x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988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20400">
            <a:off x="1922040" y="3522240"/>
            <a:ext cx="343080" cy="1752840"/>
          </a:xfrm>
          <a:custGeom>
            <a:avLst/>
            <a:gdLst>
              <a:gd name="textAreaLeft" fmla="*/ 219240 w 343080"/>
              <a:gd name="textAreaRight" fmla="*/ 343440 w 3430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6360" y="445464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inkauf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20400">
            <a:off x="3752640" y="3521160"/>
            <a:ext cx="342720" cy="1752480"/>
          </a:xfrm>
          <a:custGeom>
            <a:avLst/>
            <a:gdLst>
              <a:gd name="textAreaLeft" fmla="*/ 218880 w 342720"/>
              <a:gd name="textAreaRight" fmla="*/ 343080 w 3427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2720" y="445464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Veredlu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20400">
            <a:off x="6191280" y="3139920"/>
            <a:ext cx="342720" cy="2514600"/>
          </a:xfrm>
          <a:custGeom>
            <a:avLst/>
            <a:gdLst>
              <a:gd name="textAreaLeft" fmla="*/ 218880 w 342720"/>
              <a:gd name="textAreaRight" fmla="*/ 343080 w 3427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31760" y="445464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Verkaufser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3960" y="51055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ere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526716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6520" y="167652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lt weiter (ables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35000" y="30132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3 – 0.6X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1120" y="3429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4 – 0.3X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0840" y="38098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5 – 0.4X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5084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6 – 0.7X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4000" y="45720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7 –  X3 –  X4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8200" y="495288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5 – 0.2X8 –  0.4X9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2240" y="53341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6 –  0.8X8 –  0.6X9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640" y="2301840"/>
            <a:ext cx="18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 &lt;= 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 &lt;=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42680" y="137160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 führt zu folgenden Screensho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56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520" y="12603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eenshot-Nr.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0024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1371600"/>
            <a:ext cx="4943520" cy="5257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720" y="41562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13.4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8:23:38Z</dcterms:created>
  <dc:creator>Steffen Rieger</dc:creator>
  <dc:description/>
  <dc:language>en-US</dc:language>
  <cp:lastModifiedBy>geRonimo</cp:lastModifiedBy>
  <dcterms:modified xsi:type="dcterms:W3CDTF">2000-10-25T20:00:07Z</dcterms:modified>
  <cp:revision>16</cp:revision>
  <dc:subject/>
  <dc:title>ateil1_a8</dc:title>
</cp:coreProperties>
</file>