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AB5-F4D8-4925-A541-D1A7D44B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A51-8258-474A-A00A-FD34924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169-FEF7-4209-A7BF-DB4845E6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339-E8FC-4EF9-BA97-9F768AC3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27E-83EE-4B55-ADFD-D73AA48A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AE2-3B55-422C-BD46-481218E0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052-62C3-4581-B338-300F313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89-183A-4206-B5F4-1A3CC037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FEB-4E98-4421-B90B-44BA91F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75D-78FF-4ADD-80D9-BAF327A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6B4-B8B9-4F09-88E5-1A4B5DB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0D1-EA0C-43F7-8FAD-A38E910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7446-6497-4612-A93B-01489660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triebliche System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T1_Aufg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38080"/>
            <a:ext cx="83217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Aufgabenstel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n einem Betrieb wird ein Erzeugnis produziert, das sowohl offen als auch abgepackt verkauft wird. Die Verpackungseinheit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1 kg. Zur Produktion von 100 kg sind vom Rohstoff A 60 kg und vom Rohstoff B 40 kg erforderlich. Die Maschinen zur Aufbereitung der Rohstoffe liefern pro Stunde maximal 252 kg A bzw. 120 kg B. Jede Maschine kann nur zur Aufbereitung eines Rohstoffes herangezogen werden. Eine weitere Maschine produziert die Verpackungen und zwar maximal 4 Stück pro Min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r Deckungsbeitrag des abgepackten Erzeugnisses ist doppelt so hoch wie der des offen verkauften Erzeugnisses. Der Markt stellt kein Engpass 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Formulieren Sie einen entsprechenden LP-An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triebliche System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T1_Aufg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6680"/>
            <a:ext cx="9144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off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abgepac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: Deckungsbei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Vollständiger LP-Ansatz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7920" y="2971800"/>
            <a:ext cx="6171840" cy="875880"/>
            <a:chOff x="1447920" y="2971800"/>
            <a:chExt cx="6171840" cy="875880"/>
          </a:xfrm>
        </p:grpSpPr>
        <p:sp>
          <p:nvSpPr>
            <p:cNvPr id="51" name=""/>
            <p:cNvSpPr/>
            <p:nvPr/>
          </p:nvSpPr>
          <p:spPr>
            <a:xfrm>
              <a:off x="5913360" y="3200400"/>
              <a:ext cx="665280" cy="152280"/>
            </a:xfrm>
            <a:prstGeom prst="rightArrow">
              <a:avLst>
                <a:gd name="adj1" fmla="val 50000"/>
                <a:gd name="adj2" fmla="val 1092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2971800"/>
              <a:ext cx="6171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Zielfunktion: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+ 2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          max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71720" y="3505320"/>
            <a:ext cx="61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ebenbedingungen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0.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+  0,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&lt; = 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19720" y="1066680"/>
            <a:ext cx="3809880" cy="2667240"/>
            <a:chOff x="4419720" y="1066680"/>
            <a:chExt cx="3809880" cy="2667240"/>
          </a:xfrm>
        </p:grpSpPr>
        <p:sp>
          <p:nvSpPr>
            <p:cNvPr id="55" name=""/>
            <p:cNvSpPr/>
            <p:nvPr/>
          </p:nvSpPr>
          <p:spPr>
            <a:xfrm>
              <a:off x="4419720" y="1066680"/>
              <a:ext cx="3809880" cy="119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ohstoff 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60kg / 100kg = 0,6 kg / 1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252 kg / h = 4,2 kg / 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010280" y="2437920"/>
              <a:ext cx="838080" cy="1296000"/>
              <a:chOff x="7010280" y="2437920"/>
              <a:chExt cx="838080" cy="1296000"/>
            </a:xfrm>
          </p:grpSpPr>
          <p:sp>
            <p:nvSpPr>
              <p:cNvPr id="57" name=""/>
              <p:cNvSpPr/>
              <p:nvPr/>
            </p:nvSpPr>
            <p:spPr>
              <a:xfrm>
                <a:off x="7010280" y="3733920"/>
                <a:ext cx="83808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7848360" y="2437920"/>
                <a:ext cx="0" cy="129564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triebliche System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T1_Aufg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9144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off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abgepac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: Deckungsbei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Vollständiger LP-Ansatz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03848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,4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+  0,4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&lt;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47920" y="2971800"/>
            <a:ext cx="6171840" cy="875880"/>
            <a:chOff x="1447920" y="2971800"/>
            <a:chExt cx="6171840" cy="875880"/>
          </a:xfrm>
        </p:grpSpPr>
        <p:sp>
          <p:nvSpPr>
            <p:cNvPr id="66" name=""/>
            <p:cNvSpPr/>
            <p:nvPr/>
          </p:nvSpPr>
          <p:spPr>
            <a:xfrm>
              <a:off x="5913360" y="3200400"/>
              <a:ext cx="665280" cy="152280"/>
            </a:xfrm>
            <a:prstGeom prst="rightArrow">
              <a:avLst>
                <a:gd name="adj1" fmla="val 50000"/>
                <a:gd name="adj2" fmla="val 1092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2971800"/>
              <a:ext cx="6171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Zielfunktion: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+ 2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          max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71720" y="3505320"/>
            <a:ext cx="61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ebenbedingungen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0.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+  0,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&lt; = 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419720" y="1066680"/>
            <a:ext cx="3809880" cy="3200400"/>
            <a:chOff x="4419720" y="1066680"/>
            <a:chExt cx="3809880" cy="3200400"/>
          </a:xfrm>
        </p:grpSpPr>
        <p:sp>
          <p:nvSpPr>
            <p:cNvPr id="70" name=""/>
            <p:cNvSpPr/>
            <p:nvPr/>
          </p:nvSpPr>
          <p:spPr>
            <a:xfrm>
              <a:off x="4419720" y="1066680"/>
              <a:ext cx="3809880" cy="119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ohstoff B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40kg / 100kg = 0,4 kg / 1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120 kg / h = 2 kg / 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934320" y="2438280"/>
              <a:ext cx="914400" cy="1828800"/>
              <a:chOff x="6934320" y="2438280"/>
              <a:chExt cx="914400" cy="1828800"/>
            </a:xfrm>
          </p:grpSpPr>
          <p:sp>
            <p:nvSpPr>
              <p:cNvPr id="72" name=""/>
              <p:cNvSpPr/>
              <p:nvPr/>
            </p:nvSpPr>
            <p:spPr>
              <a:xfrm>
                <a:off x="6934320" y="4267080"/>
                <a:ext cx="91440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7848720" y="2438280"/>
                <a:ext cx="0" cy="182880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triebliche System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T1_Aufg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66680"/>
            <a:ext cx="9144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off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abgepac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: Deckungsbei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Vollständiger LP-Ansatz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03848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,4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+  0,4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&lt;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92880" y="4572000"/>
            <a:ext cx="116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&lt;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6320" y="5410080"/>
            <a:ext cx="519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ichtnegativitätsbedingung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&gt;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2971800"/>
            <a:ext cx="6171840" cy="875880"/>
            <a:chOff x="1447920" y="2971800"/>
            <a:chExt cx="6171840" cy="875880"/>
          </a:xfrm>
        </p:grpSpPr>
        <p:sp>
          <p:nvSpPr>
            <p:cNvPr id="83" name=""/>
            <p:cNvSpPr/>
            <p:nvPr/>
          </p:nvSpPr>
          <p:spPr>
            <a:xfrm>
              <a:off x="5913360" y="3200400"/>
              <a:ext cx="665280" cy="152280"/>
            </a:xfrm>
            <a:prstGeom prst="rightArrow">
              <a:avLst>
                <a:gd name="adj1" fmla="val 50000"/>
                <a:gd name="adj2" fmla="val 1092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2971800"/>
              <a:ext cx="6171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Zielfunktion: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+ 2c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                   max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71720" y="3505320"/>
            <a:ext cx="61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ebenbedingungen: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0.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+  0,6x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&lt; = 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419720" y="1066680"/>
            <a:ext cx="3809880" cy="3809880"/>
            <a:chOff x="4419720" y="1066680"/>
            <a:chExt cx="3809880" cy="3809880"/>
          </a:xfrm>
        </p:grpSpPr>
        <p:sp>
          <p:nvSpPr>
            <p:cNvPr id="87" name=""/>
            <p:cNvSpPr/>
            <p:nvPr/>
          </p:nvSpPr>
          <p:spPr>
            <a:xfrm>
              <a:off x="4419720" y="1066680"/>
              <a:ext cx="3809880" cy="825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aschine zum Verpacken, maximal 4 Stck./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934320" y="2057040"/>
              <a:ext cx="914400" cy="2819520"/>
              <a:chOff x="6934320" y="2057040"/>
              <a:chExt cx="914400" cy="2819520"/>
            </a:xfrm>
          </p:grpSpPr>
          <p:sp>
            <p:nvSpPr>
              <p:cNvPr id="89" name=""/>
              <p:cNvSpPr/>
              <p:nvPr/>
            </p:nvSpPr>
            <p:spPr>
              <a:xfrm>
                <a:off x="6934320" y="4876560"/>
                <a:ext cx="91440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7848720" y="2057040"/>
                <a:ext cx="0" cy="281916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triebliche System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T1_Aufg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360" y="135252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ahoma"/>
              </a:rPr>
              <a:t>Ergebn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36680"/>
            <a:ext cx="404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= 1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35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1400" y="3462480"/>
            <a:ext cx="84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o Monat (24h Produktion, 30 Tag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ffen verkauftes Erzeugnis: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43200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verpackt verkauftes Erzeugnis:          172800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hei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62520" y="1066680"/>
            <a:ext cx="2579760" cy="1310400"/>
            <a:chOff x="3962520" y="1066680"/>
            <a:chExt cx="2579760" cy="1310400"/>
          </a:xfrm>
        </p:grpSpPr>
        <p:sp>
          <p:nvSpPr>
            <p:cNvPr id="99" name=""/>
            <p:cNvSpPr/>
            <p:nvPr/>
          </p:nvSpPr>
          <p:spPr>
            <a:xfrm>
              <a:off x="4419720" y="1066680"/>
              <a:ext cx="175248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In kg/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962520" y="1752480"/>
              <a:ext cx="914400" cy="60984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8400" y="1737720"/>
              <a:ext cx="893880" cy="63936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14:26:35Z</dcterms:created>
  <dc:creator>Mathias Arbter</dc:creator>
  <dc:description/>
  <dc:language>en-US</dc:language>
  <cp:lastModifiedBy>Mathias Arbter</cp:lastModifiedBy>
  <dcterms:modified xsi:type="dcterms:W3CDTF">2000-10-25T19:28:32Z</dcterms:modified>
  <cp:revision>17</cp:revision>
  <dc:subject/>
  <dc:title>Kein Folientitel</dc:title>
</cp:coreProperties>
</file>