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F11-41C0-41A7-926D-26051D80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857-9A2F-477C-A096-6370213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46E-0332-4B16-B2CE-975E4DD3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9EC-70FE-4D8F-81E8-8F46D4E8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153-10BD-41E3-BEE1-9D5D8C0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0A7-2EF1-453A-A188-7F437F60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3AC-E337-4D69-8216-5C7DACE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628-D614-47DB-8906-5ADD745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B13-3BF7-4D51-8110-D39395E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726-33B1-410C-99F9-1D1F935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2F0-CB67-4855-8CAD-463D44C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69-38CB-4154-98FC-2D215CC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F25E-918C-4115-BDCA-7FF16E4D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5880" y="358920"/>
            <a:ext cx="510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triebliche Systemforsch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fgabenteil 1, Aufgab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Aufgabenstel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5 Kabelrollen a 600 m und 7 Kabelrollen a 400 m werden bestel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Auf Lager befinden sich 4 Kabelrollen a 1100 m und 2 Kabelrollen a 14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-&gt; Verschnitt soll minimal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Man Formuliere ein LP Modell unter der Voraussetzung, daß der Rest einer angeschnittnen Rolle als Verschnitt g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LP Modell so formulieren das möglichst lange, für den Verkauf noch brauchbare Kabelstücke übrig bleiben. Rollen mit min 700 m sind noch brauch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8840" y="87948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i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Nummer des Verschnittp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360" y="1371600"/>
            <a:ext cx="7428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anzahlige Vari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ibt an wie oft der Verschnittplan i verwendet wi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4320" y="2362320"/>
            <a:ext cx="598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Verschnitt bei Verwendung des Plan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124080"/>
          <a:ext cx="7772400" cy="2873520"/>
        </p:xfrm>
        <a:graphic>
          <a:graphicData uri="http://schemas.openxmlformats.org/drawingml/2006/table">
            <a:tbl>
              <a:tblPr/>
              <a:tblGrid>
                <a:gridCol w="2057400"/>
                <a:gridCol w="514440"/>
                <a:gridCol w="514440"/>
                <a:gridCol w="514080"/>
                <a:gridCol w="514440"/>
                <a:gridCol w="533520"/>
                <a:gridCol w="563400"/>
                <a:gridCol w="457200"/>
                <a:gridCol w="503280"/>
                <a:gridCol w="533520"/>
                <a:gridCol w="533160"/>
                <a:gridCol w="53352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0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pla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uschnitt: 6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 y</a:t>
                      </a:r>
                      <a:r>
                        <a:rPr b="0" lang="de-DE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1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572000" y="3124080"/>
            <a:ext cx="0" cy="289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257800"/>
            <a:ext cx="77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3480" y="13032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ösung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19720" y="380880"/>
          <a:ext cx="4495680" cy="1308240"/>
        </p:xfrm>
        <a:graphic>
          <a:graphicData uri="http://schemas.openxmlformats.org/drawingml/2006/table">
            <a:tbl>
              <a:tblPr/>
              <a:tblGrid>
                <a:gridCol w="1190520"/>
                <a:gridCol w="297000"/>
                <a:gridCol w="297000"/>
                <a:gridCol w="298440"/>
                <a:gridCol w="296640"/>
                <a:gridCol w="309600"/>
                <a:gridCol w="325440"/>
                <a:gridCol w="264960"/>
                <a:gridCol w="290520"/>
                <a:gridCol w="308160"/>
                <a:gridCol w="309600"/>
                <a:gridCol w="3078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plan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uschnitt: 6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 y</a:t>
                      </a:r>
                      <a:r>
                        <a:rPr b="0" lang="de-DE" sz="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1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380880" y="2286000"/>
            <a:ext cx="8515440" cy="878760"/>
            <a:chOff x="380880" y="2286000"/>
            <a:chExt cx="8515440" cy="878760"/>
          </a:xfrm>
        </p:grpSpPr>
        <p:sp>
          <p:nvSpPr>
            <p:cNvPr id="53" name=""/>
            <p:cNvSpPr/>
            <p:nvPr/>
          </p:nvSpPr>
          <p:spPr>
            <a:xfrm>
              <a:off x="380880" y="2793960"/>
              <a:ext cx="851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5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1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7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3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8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5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6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4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7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0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10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6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1 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-&gt; 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7680" y="2286000"/>
              <a:ext cx="179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Zielfunk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09480" y="3962520"/>
            <a:ext cx="5410440" cy="2351880"/>
            <a:chOff x="609480" y="3962520"/>
            <a:chExt cx="5410440" cy="2351880"/>
          </a:xfrm>
        </p:grpSpPr>
        <p:sp>
          <p:nvSpPr>
            <p:cNvPr id="56" name=""/>
            <p:cNvSpPr/>
            <p:nvPr/>
          </p:nvSpPr>
          <p:spPr>
            <a:xfrm>
              <a:off x="685800" y="44956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4 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&lt;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480" y="4997520"/>
              <a:ext cx="3151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5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6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7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&lt;=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396252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ebenbedingung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486400"/>
              <a:ext cx="457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5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6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7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5943600"/>
              <a:ext cx="533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7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2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+ 3 * x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95920" y="3962520"/>
            <a:ext cx="3641760" cy="903960"/>
            <a:chOff x="4795920" y="3962520"/>
            <a:chExt cx="3641760" cy="903960"/>
          </a:xfrm>
        </p:grpSpPr>
        <p:sp>
          <p:nvSpPr>
            <p:cNvPr id="62" name=""/>
            <p:cNvSpPr/>
            <p:nvPr/>
          </p:nvSpPr>
          <p:spPr>
            <a:xfrm>
              <a:off x="4876920" y="4495680"/>
              <a:ext cx="1658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de-DE" sz="16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de-DE" sz="1600" spc="-1" strike="noStrike">
                  <a:solidFill>
                    <a:srgbClr val="ffff00"/>
                  </a:solidFill>
                  <a:latin typeface="Times New Roman"/>
                </a:rPr>
                <a:t> &gt;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5920" y="3962520"/>
              <a:ext cx="36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ichtnegativitätsbedingu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31920" y="438480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Rollen a 1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440" y="4952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Rollen a 1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440" y="54100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 Rollen a 6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000" y="58672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 Rollen a 4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89920" y="1488960"/>
            <a:ext cx="68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nn man nun den Verschnittplan 2 dre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d den Verschnittplan 8 zweimal verwend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nd alle Bedingungen erfüllt und der Auftrag erled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6960" y="3089160"/>
            <a:ext cx="68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 und 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 mit z = 3 ( z ist Verschnitt in 100 m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3120" y="76212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ösung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048120"/>
            <a:ext cx="55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P Modell so formulieren das möglichst lange, für den Verkauf noch brauchbare Kabelstücke übrig bleiben. Rollen mit min 700 m sind noch brauch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895480"/>
            <a:ext cx="8398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enn man in der Zielfunktion alle y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&gt;= 700m mit Null bewertet hat dies zur Folge, daß bevorzugt die Lösungen einbezogen werden die noch brauchbare Kabelstücke als „Verschnitt“ lief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7400" y="838080"/>
          <a:ext cx="4495680" cy="1308240"/>
        </p:xfrm>
        <a:graphic>
          <a:graphicData uri="http://schemas.openxmlformats.org/drawingml/2006/table">
            <a:tbl>
              <a:tblPr/>
              <a:tblGrid>
                <a:gridCol w="1190520"/>
                <a:gridCol w="297000"/>
                <a:gridCol w="297000"/>
                <a:gridCol w="298440"/>
                <a:gridCol w="296640"/>
                <a:gridCol w="309600"/>
                <a:gridCol w="325440"/>
                <a:gridCol w="264960"/>
                <a:gridCol w="290520"/>
                <a:gridCol w="308160"/>
                <a:gridCol w="309600"/>
                <a:gridCol w="3078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plan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uschnitt: 6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 y</a:t>
                      </a:r>
                      <a:r>
                        <a:rPr b="0" lang="de-DE" sz="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1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09880" y="17524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7524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895480"/>
            <a:ext cx="8398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enn man in der Zielfunktion alle y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&gt;= 700m mit Null bewertet hat dies zur Folge, daß bevorzugt die Lösungen einbezogen werden die noch brauchbare Kabelstücke als „Verschnitt“ lief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181480"/>
            <a:ext cx="851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1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0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3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0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2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4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0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0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6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+ 2 * x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11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-&gt;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7400" y="838080"/>
          <a:ext cx="4495680" cy="1308240"/>
        </p:xfrm>
        <a:graphic>
          <a:graphicData uri="http://schemas.openxmlformats.org/drawingml/2006/table">
            <a:tbl>
              <a:tblPr/>
              <a:tblGrid>
                <a:gridCol w="1190520"/>
                <a:gridCol w="297000"/>
                <a:gridCol w="297000"/>
                <a:gridCol w="298440"/>
                <a:gridCol w="296640"/>
                <a:gridCol w="309600"/>
                <a:gridCol w="325440"/>
                <a:gridCol w="264960"/>
                <a:gridCol w="290520"/>
                <a:gridCol w="308160"/>
                <a:gridCol w="309600"/>
                <a:gridCol w="3078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00 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plan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uschnitt: 6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rschnitt y</a:t>
                      </a:r>
                      <a:r>
                        <a:rPr b="0" lang="de-DE" sz="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100 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09880" y="17524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4:06:57Z</dcterms:created>
  <dc:creator>Markus Jaeckle</dc:creator>
  <dc:description/>
  <dc:language>en-US</dc:language>
  <cp:lastModifiedBy>jack</cp:lastModifiedBy>
  <dcterms:modified xsi:type="dcterms:W3CDTF">2000-11-02T10:54:27Z</dcterms:modified>
  <cp:revision>9</cp:revision>
  <dc:subject/>
  <dc:title>PowerPoint-Präsentation</dc:title>
</cp:coreProperties>
</file>