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379-8243-4B68-9822-9B115EC0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E5F-B329-41A8-917E-098E0E27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BC1-251E-442B-A4EB-8FD01E3B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44A-8774-4FC2-B972-0B9C7CB7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0F7-2199-4B2E-81DD-61DE566A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26D8-6B67-435C-93F1-4D6B69ED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68A-8C98-4DB8-8BE2-8CB8490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5CD0-9427-4A46-B139-3E68DF3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046-C145-404F-ABD5-D583BF26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2C2B-3591-4B10-801B-E6BE8B4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75E-5345-47B2-8187-30B4CA8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626-FF02-46FF-9952-C5FA378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F23-A961-4C02-8C99-5F50E0C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B7B1-6902-4D35-AA55-2998248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E424-6D66-434E-B2CF-2CF23B8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3760-5C73-41E1-AB44-A04C908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9E3B-67D7-4BD4-88CE-BE580562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A81-F664-48E2-B3A6-61C98292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0D5-8280-439F-AC29-0DC6C2A1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223-FF3D-4C88-8B15-569088C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DB7-0B23-4F34-8F86-5C947CD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69A-3750-476E-A070-2CCE100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8B6-B5FA-47D3-8617-944EA621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852-F6CE-4832-93ED-EB23CA0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2EE-D7C0-42F0-B841-AD740E6E9E2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BD59-4776-412B-AE23-C17D14DDB27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57200"/>
            <a:ext cx="6248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Betriebliche Systemforsch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Teil 1 Aufgab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5120" y="65530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Gerd Oesterle 19 Okt.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90720" y="2133720"/>
            <a:ext cx="7162560" cy="4185720"/>
            <a:chOff x="990720" y="2133720"/>
            <a:chExt cx="7162560" cy="4185720"/>
          </a:xfrm>
        </p:grpSpPr>
        <p:grpSp>
          <p:nvGrpSpPr>
            <p:cNvPr id="94" name=""/>
            <p:cNvGrpSpPr/>
            <p:nvPr/>
          </p:nvGrpSpPr>
          <p:grpSpPr>
            <a:xfrm>
              <a:off x="990720" y="2133720"/>
              <a:ext cx="7162560" cy="4185720"/>
              <a:chOff x="990720" y="2133720"/>
              <a:chExt cx="7162560" cy="4185720"/>
            </a:xfrm>
          </p:grpSpPr>
          <p:sp>
            <p:nvSpPr>
              <p:cNvPr id="95" name=""/>
              <p:cNvSpPr/>
              <p:nvPr/>
            </p:nvSpPr>
            <p:spPr>
              <a:xfrm>
                <a:off x="1905120" y="2362320"/>
                <a:ext cx="6248160" cy="39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Maximie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z = 2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+ 3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            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max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Nebenbedingunge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2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+ 4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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  <a:ea typeface="Arial Unicode MS"/>
                  </a:rPr>
                  <a:t> 1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2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+ 1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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  <a:ea typeface="Arial Unicode MS"/>
                  </a:rPr>
                  <a:t> 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  <a:ea typeface="Arial Unicode MS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4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= 1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        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4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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  <a:ea typeface="Arial Unicode MS"/>
                  </a:rPr>
                  <a:t> 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1 </a:t>
                </a:r>
                <a:r>
                  <a:rPr b="0" lang="de-DE" sz="1800" spc="-1" strike="noStrike">
                    <a:solidFill>
                      <a:srgbClr val="ffff00"/>
                    </a:solidFill>
                    <a:latin typeface="Times New Roman"/>
                  </a:rPr>
                  <a:t>;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de-DE" sz="1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  <a:ea typeface="Arial Unicode MS"/>
                  </a:rPr>
                  <a:t>≥ 0            Nichtnegativitätsbedingun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48320" y="3200400"/>
                <a:ext cx="5331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133720"/>
                <a:ext cx="0" cy="3657600"/>
              </a:xfrm>
              <a:prstGeom prst="line">
                <a:avLst/>
              </a:prstGeom>
              <a:ln cap="sq"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53280" y="2133720"/>
                <a:ext cx="0" cy="3657600"/>
              </a:xfrm>
              <a:prstGeom prst="line">
                <a:avLst/>
              </a:prstGeom>
              <a:ln cap="sq"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276720" y="6062760"/>
              <a:ext cx="5331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8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600200" y="1676520"/>
            <a:ext cx="5105520" cy="4647960"/>
            <a:chOff x="1600200" y="1676520"/>
            <a:chExt cx="5105520" cy="4647960"/>
          </a:xfrm>
        </p:grpSpPr>
        <p:sp>
          <p:nvSpPr>
            <p:cNvPr id="641" name=""/>
            <p:cNvSpPr/>
            <p:nvPr/>
          </p:nvSpPr>
          <p:spPr>
            <a:xfrm>
              <a:off x="1981080" y="1981080"/>
              <a:ext cx="0" cy="4267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76520" y="5867280"/>
              <a:ext cx="4419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3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24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05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67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29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0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91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5120" y="5486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5120" y="5105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05120" y="4724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05120" y="4343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05120" y="3962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05120" y="3581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05120" y="3200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05120" y="2819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05120" y="2438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32000" y="5943600"/>
              <a:ext cx="19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22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03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84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65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46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27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0860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8948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38680" y="594360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76520" y="5334120"/>
              <a:ext cx="1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76520" y="4952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76520" y="4572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6520" y="4191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76520" y="3809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76520" y="3429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76520" y="3048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76520" y="266688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76520" y="22860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167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72200" y="5715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124080" y="2819160"/>
              <a:ext cx="0" cy="3429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2666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57400" y="27432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86400" y="3962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57400" y="3657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980720" y="4343400"/>
            <a:ext cx="1143360" cy="1531800"/>
            <a:chOff x="1980720" y="4343400"/>
            <a:chExt cx="1143360" cy="1531800"/>
          </a:xfrm>
        </p:grpSpPr>
        <p:sp>
          <p:nvSpPr>
            <p:cNvPr id="692" name=""/>
            <p:cNvSpPr/>
            <p:nvPr/>
          </p:nvSpPr>
          <p:spPr>
            <a:xfrm flipH="1">
              <a:off x="1980720" y="4343400"/>
              <a:ext cx="228600" cy="2286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981080" y="4343400"/>
              <a:ext cx="533520" cy="5335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980720" y="4387680"/>
              <a:ext cx="770040" cy="7700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981080" y="4572000"/>
              <a:ext cx="889200" cy="8888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1981080" y="4800600"/>
              <a:ext cx="990720" cy="9907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2209320" y="5029200"/>
              <a:ext cx="846360" cy="8460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514240" y="5257800"/>
              <a:ext cx="609480" cy="60948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819520" y="5562720"/>
              <a:ext cx="304560" cy="30456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5257800" y="304920"/>
            <a:ext cx="34290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ielfunk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 = 2x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+ 3x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Bs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14 = 2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 + 3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162920" y="114300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2470320"/>
            <a:ext cx="2539800" cy="3778200"/>
          </a:xfrm>
          <a:prstGeom prst="line">
            <a:avLst/>
          </a:prstGeom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5800" y="1981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Z=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666880" y="3736800"/>
            <a:ext cx="487440" cy="682920"/>
            <a:chOff x="2666880" y="3736800"/>
            <a:chExt cx="487440" cy="682920"/>
          </a:xfrm>
        </p:grpSpPr>
        <p:sp>
          <p:nvSpPr>
            <p:cNvPr id="705" name=""/>
            <p:cNvSpPr/>
            <p:nvPr/>
          </p:nvSpPr>
          <p:spPr>
            <a:xfrm>
              <a:off x="2668680" y="37368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276720" y="4114800"/>
            <a:ext cx="838080" cy="0"/>
          </a:xfrm>
          <a:prstGeom prst="line">
            <a:avLst/>
          </a:prstGeom>
          <a:ln cap="sq" w="1260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2520" y="3927600"/>
            <a:ext cx="48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Lösung, da Punkt C vom Ursp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die grösste Entfernung hat (Optim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28800" y="1676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1981080"/>
            <a:ext cx="5029200" cy="4269600"/>
            <a:chOff x="1676520" y="1981080"/>
            <a:chExt cx="5029200" cy="4269600"/>
          </a:xfrm>
        </p:grpSpPr>
        <p:sp>
          <p:nvSpPr>
            <p:cNvPr id="102" name=""/>
            <p:cNvSpPr/>
            <p:nvPr/>
          </p:nvSpPr>
          <p:spPr>
            <a:xfrm>
              <a:off x="1981080" y="1981080"/>
              <a:ext cx="0" cy="4267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5867280"/>
              <a:ext cx="4419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8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9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0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1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5120" y="5486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5105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4724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4343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3962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3581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3200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819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5120" y="2438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2000" y="5943600"/>
              <a:ext cx="19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2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03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84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65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46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7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0860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948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8680" y="594360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6520" y="5334120"/>
              <a:ext cx="1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6520" y="4952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4572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6520" y="4191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3809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3429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520" y="3048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266688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520" y="22860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72200" y="5715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181480" y="10666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Nebenbedingung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2x</a:t>
            </a:r>
            <a:r>
              <a:rPr b="0" lang="de-DE" sz="1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+ 4x</a:t>
            </a:r>
            <a:r>
              <a:rPr b="0" lang="de-DE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52480" y="2362320"/>
            <a:ext cx="1981440" cy="3962160"/>
            <a:chOff x="1752480" y="2362320"/>
            <a:chExt cx="1981440" cy="3962160"/>
          </a:xfrm>
        </p:grpSpPr>
        <p:sp>
          <p:nvSpPr>
            <p:cNvPr id="146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7400" y="27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905120" y="2743200"/>
            <a:ext cx="1676160" cy="3200400"/>
            <a:chOff x="1905120" y="2743200"/>
            <a:chExt cx="1676160" cy="3200400"/>
          </a:xfrm>
        </p:grpSpPr>
        <p:sp>
          <p:nvSpPr>
            <p:cNvPr id="149" name=""/>
            <p:cNvSpPr/>
            <p:nvPr/>
          </p:nvSpPr>
          <p:spPr>
            <a:xfrm>
              <a:off x="1905120" y="274320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900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133720" y="2438280"/>
            <a:ext cx="3047760" cy="3276720"/>
            <a:chOff x="2133720" y="2438280"/>
            <a:chExt cx="3047760" cy="3276720"/>
          </a:xfrm>
        </p:grpSpPr>
        <p:sp>
          <p:nvSpPr>
            <p:cNvPr id="152" name=""/>
            <p:cNvSpPr/>
            <p:nvPr/>
          </p:nvSpPr>
          <p:spPr>
            <a:xfrm flipH="1">
              <a:off x="2133720" y="2438280"/>
              <a:ext cx="3047760" cy="38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80920" y="2971800"/>
              <a:ext cx="1600200" cy="2743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86520" y="205740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1080" y="19810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5867280"/>
            <a:ext cx="4419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5486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105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724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343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200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819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2438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2000" y="5943600"/>
            <a:ext cx="1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2600" y="59436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03480" y="59436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472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5600" y="59436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46480" y="59436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2772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0860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8948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594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334120"/>
            <a:ext cx="1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95288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4572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419112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380988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304812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66688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2860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676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10666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4568"/>
                </a:solidFill>
                <a:latin typeface="Times New Roman"/>
              </a:rPr>
              <a:t>Nebenbedingung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4568"/>
                </a:solidFill>
                <a:latin typeface="Times New Roman"/>
              </a:rPr>
              <a:t>2x</a:t>
            </a:r>
            <a:r>
              <a:rPr b="0" lang="de-DE" sz="1200" spc="-1" strike="noStrike">
                <a:solidFill>
                  <a:srgbClr val="ff4568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</a:rPr>
              <a:t> + 1x</a:t>
            </a:r>
            <a:r>
              <a:rPr b="0" lang="de-DE" sz="1200" spc="-1" strike="noStrike">
                <a:solidFill>
                  <a:srgbClr val="ff4568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4568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x</a:t>
            </a:r>
            <a:r>
              <a:rPr b="0" lang="de-DE" sz="12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1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ff4568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x</a:t>
            </a:r>
            <a:r>
              <a:rPr b="0" lang="de-DE" sz="12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2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ff4568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ff4568"/>
                </a:solidFill>
                <a:latin typeface="Times New Roman"/>
                <a:ea typeface="Arial Unicode MS"/>
              </a:rPr>
              <a:t>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76520" y="3657600"/>
            <a:ext cx="4419360" cy="2362320"/>
            <a:chOff x="1676520" y="3657600"/>
            <a:chExt cx="4419360" cy="2362320"/>
          </a:xfrm>
        </p:grpSpPr>
        <p:sp>
          <p:nvSpPr>
            <p:cNvPr id="199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74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2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52480" y="2362320"/>
            <a:ext cx="1981440" cy="3962160"/>
            <a:chOff x="1752480" y="2362320"/>
            <a:chExt cx="1981440" cy="3962160"/>
          </a:xfrm>
        </p:grpSpPr>
        <p:sp>
          <p:nvSpPr>
            <p:cNvPr id="203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27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19810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5867280"/>
            <a:ext cx="4419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5486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105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4724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4343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3200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2819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2438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2000" y="5943600"/>
            <a:ext cx="1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2600" y="59436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03480" y="59436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8472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65600" y="59436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480" y="59436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772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0860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8948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594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334120"/>
            <a:ext cx="1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95288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4572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380988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304812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266688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22860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1676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10666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Nebenbedingung 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4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  <a:ea typeface="Arial Unicode MS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  <a:ea typeface="Arial Unicode MS"/>
              </a:rPr>
              <a:t>1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  <a:ea typeface="Arial Unicode MS"/>
              </a:rPr>
              <a:t>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00200" y="3962520"/>
            <a:ext cx="4343400" cy="459720"/>
            <a:chOff x="1600200" y="3962520"/>
            <a:chExt cx="4343400" cy="459720"/>
          </a:xfrm>
        </p:grpSpPr>
        <p:sp>
          <p:nvSpPr>
            <p:cNvPr id="250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64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752480" y="2362320"/>
            <a:ext cx="1981440" cy="3962160"/>
            <a:chOff x="1752480" y="2362320"/>
            <a:chExt cx="1981440" cy="3962160"/>
          </a:xfrm>
        </p:grpSpPr>
        <p:sp>
          <p:nvSpPr>
            <p:cNvPr id="253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57400" y="27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76520" y="3657600"/>
            <a:ext cx="4419360" cy="2362320"/>
            <a:chOff x="1676520" y="3657600"/>
            <a:chExt cx="4419360" cy="2362320"/>
          </a:xfrm>
        </p:grpSpPr>
        <p:sp>
          <p:nvSpPr>
            <p:cNvPr id="256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81080" y="19810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867280"/>
            <a:ext cx="4419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7913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5486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5105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4724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4343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200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2819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243828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32000" y="5943600"/>
            <a:ext cx="1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22600" y="59436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3480" y="59436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8472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65600" y="59436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46480" y="59436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772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0860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89480" y="59436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594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5334120"/>
            <a:ext cx="1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495288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4572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19112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80988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304812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266688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228600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676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106668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Nebenbedingung 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4x</a:t>
            </a:r>
            <a:r>
              <a:rPr b="0" lang="de-DE" sz="1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x</a:t>
            </a:r>
            <a:r>
              <a:rPr b="0" lang="de-DE" sz="12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2</a:t>
            </a:r>
            <a:r>
              <a:rPr b="0" lang="de-DE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4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048120" y="2666880"/>
            <a:ext cx="457200" cy="3581280"/>
            <a:chOff x="3048120" y="2666880"/>
            <a:chExt cx="457200" cy="3581280"/>
          </a:xfrm>
        </p:grpSpPr>
        <p:sp>
          <p:nvSpPr>
            <p:cNvPr id="303" name=""/>
            <p:cNvSpPr/>
            <p:nvPr/>
          </p:nvSpPr>
          <p:spPr>
            <a:xfrm flipV="1">
              <a:off x="3124080" y="2819160"/>
              <a:ext cx="0" cy="3429000"/>
            </a:xfrm>
            <a:prstGeom prst="line">
              <a:avLst/>
            </a:prstGeom>
            <a:ln cap="sq"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812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752480" y="2362320"/>
            <a:ext cx="1981440" cy="3962160"/>
            <a:chOff x="1752480" y="2362320"/>
            <a:chExt cx="1981440" cy="3962160"/>
          </a:xfrm>
        </p:grpSpPr>
        <p:sp>
          <p:nvSpPr>
            <p:cNvPr id="306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57400" y="27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600200" y="3962520"/>
            <a:ext cx="4343400" cy="459720"/>
            <a:chOff x="1600200" y="3962520"/>
            <a:chExt cx="4343400" cy="459720"/>
          </a:xfrm>
        </p:grpSpPr>
        <p:sp>
          <p:nvSpPr>
            <p:cNvPr id="309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864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76520" y="3657600"/>
            <a:ext cx="4419360" cy="2362320"/>
            <a:chOff x="1676520" y="3657600"/>
            <a:chExt cx="4419360" cy="2362320"/>
          </a:xfrm>
        </p:grpSpPr>
        <p:sp>
          <p:nvSpPr>
            <p:cNvPr id="312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574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5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600200" y="1676520"/>
            <a:ext cx="5105520" cy="4647960"/>
            <a:chOff x="1600200" y="1676520"/>
            <a:chExt cx="5105520" cy="4647960"/>
          </a:xfrm>
        </p:grpSpPr>
        <p:sp>
          <p:nvSpPr>
            <p:cNvPr id="316" name=""/>
            <p:cNvSpPr/>
            <p:nvPr/>
          </p:nvSpPr>
          <p:spPr>
            <a:xfrm>
              <a:off x="1981080" y="1981080"/>
              <a:ext cx="0" cy="4267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5867280"/>
              <a:ext cx="4419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24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05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67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8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29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0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91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5120" y="5486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5120" y="5105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4724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5120" y="4343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05120" y="3962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3581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3200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5120" y="2819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5120" y="2438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32000" y="5943600"/>
              <a:ext cx="19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2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03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84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65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46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27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0860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8948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38680" y="594360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6520" y="5334120"/>
              <a:ext cx="1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76520" y="4952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76520" y="4572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76520" y="4191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3809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76520" y="3429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76520" y="3048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266688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76520" y="22860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28800" y="167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5715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124080" y="2819160"/>
              <a:ext cx="0" cy="3429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2666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400" y="27432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86400" y="3962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3657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980720" y="803160"/>
            <a:ext cx="5424840" cy="5072040"/>
            <a:chOff x="1980720" y="803160"/>
            <a:chExt cx="5424840" cy="5072040"/>
          </a:xfrm>
        </p:grpSpPr>
        <p:grpSp>
          <p:nvGrpSpPr>
            <p:cNvPr id="367" name=""/>
            <p:cNvGrpSpPr/>
            <p:nvPr/>
          </p:nvGrpSpPr>
          <p:grpSpPr>
            <a:xfrm>
              <a:off x="1980720" y="4343400"/>
              <a:ext cx="1143360" cy="1531800"/>
              <a:chOff x="1980720" y="4343400"/>
              <a:chExt cx="1143360" cy="153180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1980720" y="4343400"/>
                <a:ext cx="228600" cy="22860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981080" y="4343400"/>
                <a:ext cx="533520" cy="53352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1980720" y="4387680"/>
                <a:ext cx="770040" cy="77004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1981080" y="4572000"/>
                <a:ext cx="889200" cy="88884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981080" y="4800600"/>
                <a:ext cx="990720" cy="99072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2209320" y="5029200"/>
                <a:ext cx="846360" cy="84600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514240" y="5257800"/>
                <a:ext cx="609480" cy="60948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19520" y="5562720"/>
                <a:ext cx="304560" cy="304560"/>
              </a:xfrm>
              <a:prstGeom prst="line">
                <a:avLst/>
              </a:prstGeom>
              <a:ln w="5400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784760" y="803160"/>
              <a:ext cx="26208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Lösungsraum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Konvexer Polyed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(Lösungssimplex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hier Fünfeck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Punkte 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654560" y="3886200"/>
            <a:ext cx="402840" cy="533520"/>
            <a:chOff x="1654560" y="3886200"/>
            <a:chExt cx="402840" cy="533520"/>
          </a:xfrm>
        </p:grpSpPr>
        <p:sp>
          <p:nvSpPr>
            <p:cNvPr id="378" name=""/>
            <p:cNvSpPr/>
            <p:nvPr/>
          </p:nvSpPr>
          <p:spPr>
            <a:xfrm>
              <a:off x="165456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666880" y="3886200"/>
            <a:ext cx="385200" cy="533520"/>
            <a:chOff x="2666880" y="3886200"/>
            <a:chExt cx="385200" cy="533520"/>
          </a:xfrm>
        </p:grpSpPr>
        <p:sp>
          <p:nvSpPr>
            <p:cNvPr id="381" name=""/>
            <p:cNvSpPr/>
            <p:nvPr/>
          </p:nvSpPr>
          <p:spPr>
            <a:xfrm>
              <a:off x="266868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48120" y="5029200"/>
            <a:ext cx="478440" cy="500760"/>
            <a:chOff x="3048120" y="5029200"/>
            <a:chExt cx="478440" cy="500760"/>
          </a:xfrm>
        </p:grpSpPr>
        <p:sp>
          <p:nvSpPr>
            <p:cNvPr id="384" name=""/>
            <p:cNvSpPr/>
            <p:nvPr/>
          </p:nvSpPr>
          <p:spPr>
            <a:xfrm>
              <a:off x="312624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654920" y="5791320"/>
            <a:ext cx="402480" cy="500760"/>
            <a:chOff x="1654920" y="5791320"/>
            <a:chExt cx="402480" cy="500760"/>
          </a:xfrm>
        </p:grpSpPr>
        <p:sp>
          <p:nvSpPr>
            <p:cNvPr id="387" name=""/>
            <p:cNvSpPr/>
            <p:nvPr/>
          </p:nvSpPr>
          <p:spPr>
            <a:xfrm>
              <a:off x="1654920" y="583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5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048120" y="5791320"/>
            <a:ext cx="444240" cy="500760"/>
            <a:chOff x="3048120" y="5791320"/>
            <a:chExt cx="444240" cy="500760"/>
          </a:xfrm>
        </p:grpSpPr>
        <p:sp>
          <p:nvSpPr>
            <p:cNvPr id="390" name=""/>
            <p:cNvSpPr/>
            <p:nvPr/>
          </p:nvSpPr>
          <p:spPr>
            <a:xfrm>
              <a:off x="3125880" y="5832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6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00200" y="1676520"/>
            <a:ext cx="5105520" cy="4647960"/>
            <a:chOff x="1600200" y="1676520"/>
            <a:chExt cx="5105520" cy="4647960"/>
          </a:xfrm>
        </p:grpSpPr>
        <p:sp>
          <p:nvSpPr>
            <p:cNvPr id="394" name=""/>
            <p:cNvSpPr/>
            <p:nvPr/>
          </p:nvSpPr>
          <p:spPr>
            <a:xfrm>
              <a:off x="1981080" y="1981080"/>
              <a:ext cx="0" cy="4267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6520" y="5867280"/>
              <a:ext cx="4419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43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24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67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48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29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10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1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486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105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05120" y="4724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05120" y="4343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5120" y="3962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05120" y="3581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05120" y="3200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5120" y="2819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5120" y="2438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32000" y="5943600"/>
              <a:ext cx="19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22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03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84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65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6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27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0860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8948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38680" y="594360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6520" y="5334120"/>
              <a:ext cx="1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6520" y="4952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6520" y="4572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4191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76520" y="3809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76520" y="3429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76520" y="3048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6520" y="266688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6520" y="22860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28800" y="167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72200" y="5715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124080" y="2819160"/>
              <a:ext cx="0" cy="3429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48120" y="2666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7400" y="27432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86400" y="3962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57400" y="3657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980720" y="4343400"/>
            <a:ext cx="1143360" cy="1531800"/>
            <a:chOff x="1980720" y="4343400"/>
            <a:chExt cx="1143360" cy="1531800"/>
          </a:xfrm>
        </p:grpSpPr>
        <p:sp>
          <p:nvSpPr>
            <p:cNvPr id="445" name=""/>
            <p:cNvSpPr/>
            <p:nvPr/>
          </p:nvSpPr>
          <p:spPr>
            <a:xfrm flipH="1">
              <a:off x="1980720" y="4343400"/>
              <a:ext cx="228600" cy="2286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981080" y="4343400"/>
              <a:ext cx="533520" cy="5335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980720" y="4387680"/>
              <a:ext cx="770040" cy="7700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981080" y="4572000"/>
              <a:ext cx="889200" cy="8888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81080" y="4800600"/>
              <a:ext cx="990720" cy="9907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209320" y="5029200"/>
              <a:ext cx="846360" cy="8460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514240" y="5257800"/>
              <a:ext cx="609480" cy="60948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819520" y="5562720"/>
              <a:ext cx="304560" cy="30456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257800" y="304920"/>
            <a:ext cx="3429000" cy="3701880"/>
            <a:chOff x="5257800" y="304920"/>
            <a:chExt cx="3429000" cy="3701880"/>
          </a:xfrm>
        </p:grpSpPr>
        <p:sp>
          <p:nvSpPr>
            <p:cNvPr id="454" name=""/>
            <p:cNvSpPr/>
            <p:nvPr/>
          </p:nvSpPr>
          <p:spPr>
            <a:xfrm>
              <a:off x="5257800" y="304920"/>
              <a:ext cx="3429000" cy="37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Zielfunktio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z = 2x</a:t>
              </a:r>
              <a:r>
                <a:rPr b="0" lang="de-DE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+ 3x</a:t>
              </a:r>
              <a:r>
                <a:rPr b="0" lang="de-DE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de-DE" sz="1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ma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Bsp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6 = 2x</a:t>
              </a:r>
              <a:r>
                <a:rPr b="0" lang="de-DE" sz="1200" spc="-1" strike="noStrike">
                  <a:solidFill>
                    <a:srgbClr val="66ff33"/>
                  </a:solidFill>
                  <a:latin typeface="Times New Roman"/>
                </a:rPr>
                <a:t>1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 + 3x</a:t>
              </a:r>
              <a:r>
                <a:rPr b="0" lang="de-DE" sz="1200" spc="-1" strike="noStrike">
                  <a:solidFill>
                    <a:srgbClr val="66ff33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x</a:t>
              </a:r>
              <a:r>
                <a:rPr b="0" lang="de-DE" sz="1200" spc="-1" strike="noStrike">
                  <a:solidFill>
                    <a:srgbClr val="66ff33"/>
                  </a:solidFill>
                  <a:latin typeface="Times New Roman"/>
                </a:rPr>
                <a:t>1 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x</a:t>
              </a:r>
              <a:r>
                <a:rPr b="0" lang="de-DE" sz="1200" spc="-1" strike="noStrike">
                  <a:solidFill>
                    <a:srgbClr val="66ff33"/>
                  </a:solidFill>
                  <a:latin typeface="Times New Roman"/>
                </a:rPr>
                <a:t>2 </a:t>
              </a: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1143000"/>
              <a:ext cx="533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57200" y="2133720"/>
            <a:ext cx="2539800" cy="4114440"/>
            <a:chOff x="457200" y="2133720"/>
            <a:chExt cx="2539800" cy="4114440"/>
          </a:xfrm>
        </p:grpSpPr>
        <p:sp>
          <p:nvSpPr>
            <p:cNvPr id="457" name=""/>
            <p:cNvSpPr/>
            <p:nvPr/>
          </p:nvSpPr>
          <p:spPr>
            <a:xfrm>
              <a:off x="457200" y="2469600"/>
              <a:ext cx="2539800" cy="3778560"/>
            </a:xfrm>
            <a:prstGeom prst="line">
              <a:avLst/>
            </a:prstGeom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240" y="2133720"/>
              <a:ext cx="8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Z=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654560" y="3886200"/>
            <a:ext cx="402840" cy="533520"/>
            <a:chOff x="1654560" y="3886200"/>
            <a:chExt cx="402840" cy="533520"/>
          </a:xfrm>
        </p:grpSpPr>
        <p:sp>
          <p:nvSpPr>
            <p:cNvPr id="460" name=""/>
            <p:cNvSpPr/>
            <p:nvPr/>
          </p:nvSpPr>
          <p:spPr>
            <a:xfrm>
              <a:off x="165456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666880" y="3886200"/>
            <a:ext cx="385200" cy="533520"/>
            <a:chOff x="2666880" y="3886200"/>
            <a:chExt cx="385200" cy="533520"/>
          </a:xfrm>
        </p:grpSpPr>
        <p:sp>
          <p:nvSpPr>
            <p:cNvPr id="463" name=""/>
            <p:cNvSpPr/>
            <p:nvPr/>
          </p:nvSpPr>
          <p:spPr>
            <a:xfrm>
              <a:off x="266868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048120" y="5029200"/>
            <a:ext cx="478440" cy="500760"/>
            <a:chOff x="3048120" y="5029200"/>
            <a:chExt cx="478440" cy="500760"/>
          </a:xfrm>
        </p:grpSpPr>
        <p:sp>
          <p:nvSpPr>
            <p:cNvPr id="466" name=""/>
            <p:cNvSpPr/>
            <p:nvPr/>
          </p:nvSpPr>
          <p:spPr>
            <a:xfrm>
              <a:off x="312624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654920" y="5791320"/>
            <a:ext cx="402480" cy="500760"/>
            <a:chOff x="1654920" y="5791320"/>
            <a:chExt cx="402480" cy="500760"/>
          </a:xfrm>
        </p:grpSpPr>
        <p:sp>
          <p:nvSpPr>
            <p:cNvPr id="469" name=""/>
            <p:cNvSpPr/>
            <p:nvPr/>
          </p:nvSpPr>
          <p:spPr>
            <a:xfrm>
              <a:off x="1654920" y="583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05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048120" y="5791320"/>
            <a:ext cx="444240" cy="500760"/>
            <a:chOff x="3048120" y="5791320"/>
            <a:chExt cx="444240" cy="500760"/>
          </a:xfrm>
        </p:grpSpPr>
        <p:sp>
          <p:nvSpPr>
            <p:cNvPr id="472" name=""/>
            <p:cNvSpPr/>
            <p:nvPr/>
          </p:nvSpPr>
          <p:spPr>
            <a:xfrm>
              <a:off x="3125880" y="5832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8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7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600200" y="1676520"/>
            <a:ext cx="5105520" cy="4647960"/>
            <a:chOff x="1600200" y="1676520"/>
            <a:chExt cx="5105520" cy="4647960"/>
          </a:xfrm>
        </p:grpSpPr>
        <p:sp>
          <p:nvSpPr>
            <p:cNvPr id="476" name=""/>
            <p:cNvSpPr/>
            <p:nvPr/>
          </p:nvSpPr>
          <p:spPr>
            <a:xfrm>
              <a:off x="1981080" y="1981080"/>
              <a:ext cx="0" cy="4267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6520" y="5867280"/>
              <a:ext cx="4419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3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24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8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29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10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1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5120" y="5486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05120" y="5105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05120" y="4724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4343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5120" y="3962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3581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5120" y="3200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5120" y="2819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5120" y="2438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32000" y="5943600"/>
              <a:ext cx="19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22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03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84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65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46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27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0860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948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594360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76520" y="5334120"/>
              <a:ext cx="1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76520" y="4952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76520" y="4572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4191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76520" y="3809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6520" y="3429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3048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76520" y="266688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76520" y="22860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28800" y="167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72200" y="5715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124080" y="2819160"/>
              <a:ext cx="0" cy="3429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48120" y="2666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57400" y="27432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86400" y="3962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400" y="3657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980720" y="4343400"/>
            <a:ext cx="1143360" cy="1531800"/>
            <a:chOff x="1980720" y="4343400"/>
            <a:chExt cx="1143360" cy="1531800"/>
          </a:xfrm>
        </p:grpSpPr>
        <p:sp>
          <p:nvSpPr>
            <p:cNvPr id="527" name=""/>
            <p:cNvSpPr/>
            <p:nvPr/>
          </p:nvSpPr>
          <p:spPr>
            <a:xfrm flipH="1">
              <a:off x="1980720" y="4343400"/>
              <a:ext cx="228600" cy="2286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981080" y="4343400"/>
              <a:ext cx="533520" cy="5335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980720" y="4387680"/>
              <a:ext cx="770040" cy="7700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981080" y="4572000"/>
              <a:ext cx="889200" cy="8888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1981080" y="4800600"/>
              <a:ext cx="990720" cy="9907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209320" y="5029200"/>
              <a:ext cx="846360" cy="8460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514240" y="5257800"/>
              <a:ext cx="609480" cy="60948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819520" y="5562720"/>
              <a:ext cx="304560" cy="30456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257800" y="304920"/>
            <a:ext cx="34290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ielfunk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 = 2x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+ 3x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Bs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11 = 2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 + 3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62920" y="114300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66680" y="2470320"/>
            <a:ext cx="2540160" cy="3778200"/>
          </a:xfrm>
          <a:prstGeom prst="line">
            <a:avLst/>
          </a:prstGeom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1981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Z=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54560" y="3886200"/>
            <a:ext cx="402840" cy="533520"/>
            <a:chOff x="1654560" y="3886200"/>
            <a:chExt cx="402840" cy="533520"/>
          </a:xfrm>
        </p:grpSpPr>
        <p:sp>
          <p:nvSpPr>
            <p:cNvPr id="540" name=""/>
            <p:cNvSpPr/>
            <p:nvPr/>
          </p:nvSpPr>
          <p:spPr>
            <a:xfrm>
              <a:off x="165456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666880" y="3886200"/>
            <a:ext cx="385200" cy="533520"/>
            <a:chOff x="2666880" y="3886200"/>
            <a:chExt cx="385200" cy="533520"/>
          </a:xfrm>
        </p:grpSpPr>
        <p:sp>
          <p:nvSpPr>
            <p:cNvPr id="543" name=""/>
            <p:cNvSpPr/>
            <p:nvPr/>
          </p:nvSpPr>
          <p:spPr>
            <a:xfrm>
              <a:off x="266868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048120" y="5029200"/>
            <a:ext cx="478440" cy="500760"/>
            <a:chOff x="3048120" y="5029200"/>
            <a:chExt cx="478440" cy="500760"/>
          </a:xfrm>
        </p:grpSpPr>
        <p:sp>
          <p:nvSpPr>
            <p:cNvPr id="546" name=""/>
            <p:cNvSpPr/>
            <p:nvPr/>
          </p:nvSpPr>
          <p:spPr>
            <a:xfrm>
              <a:off x="312624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654920" y="5791320"/>
            <a:ext cx="402480" cy="500760"/>
            <a:chOff x="1654920" y="5791320"/>
            <a:chExt cx="402480" cy="500760"/>
          </a:xfrm>
        </p:grpSpPr>
        <p:sp>
          <p:nvSpPr>
            <p:cNvPr id="549" name=""/>
            <p:cNvSpPr/>
            <p:nvPr/>
          </p:nvSpPr>
          <p:spPr>
            <a:xfrm>
              <a:off x="1654920" y="583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05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57200" y="2470320"/>
            <a:ext cx="2540160" cy="3778200"/>
          </a:xfrm>
          <a:prstGeom prst="line">
            <a:avLst/>
          </a:prstGeom>
          <a:ln w="1260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990720" y="281916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048120" y="5791320"/>
            <a:ext cx="444240" cy="500760"/>
            <a:chOff x="3048120" y="5791320"/>
            <a:chExt cx="444240" cy="500760"/>
          </a:xfrm>
        </p:grpSpPr>
        <p:sp>
          <p:nvSpPr>
            <p:cNvPr id="554" name=""/>
            <p:cNvSpPr/>
            <p:nvPr/>
          </p:nvSpPr>
          <p:spPr>
            <a:xfrm>
              <a:off x="3125880" y="5832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8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219320" y="304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raphische Loes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8.Schri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600200" y="1676520"/>
            <a:ext cx="5105520" cy="4647960"/>
            <a:chOff x="1600200" y="1676520"/>
            <a:chExt cx="5105520" cy="4647960"/>
          </a:xfrm>
        </p:grpSpPr>
        <p:sp>
          <p:nvSpPr>
            <p:cNvPr id="558" name=""/>
            <p:cNvSpPr/>
            <p:nvPr/>
          </p:nvSpPr>
          <p:spPr>
            <a:xfrm>
              <a:off x="1981080" y="1981080"/>
              <a:ext cx="0" cy="4267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5867280"/>
              <a:ext cx="44193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43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24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05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67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48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20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1008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91320" y="579132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05120" y="5486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5120" y="5105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05120" y="4724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05120" y="4343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5120" y="3962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3581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320040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05120" y="281952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05120" y="2438280"/>
              <a:ext cx="1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32000" y="5943600"/>
              <a:ext cx="19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22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03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84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65600" y="59436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46480" y="5943600"/>
              <a:ext cx="2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2772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0860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89480" y="59436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38680" y="594360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6520" y="5334120"/>
              <a:ext cx="1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4952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76520" y="4572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76520" y="4191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76520" y="380988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76520" y="3429000"/>
              <a:ext cx="2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304812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76520" y="266688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2286000"/>
              <a:ext cx="3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828800" y="167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5715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de-DE" sz="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24080" y="2819160"/>
              <a:ext cx="0" cy="3429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120" y="2666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2362320"/>
              <a:ext cx="1981440" cy="3962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27432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0200" y="4343400"/>
              <a:ext cx="4343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3962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76520" y="3809880"/>
              <a:ext cx="4419360" cy="2210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3657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80720" y="4343400"/>
            <a:ext cx="1143360" cy="1531800"/>
            <a:chOff x="1980720" y="4343400"/>
            <a:chExt cx="1143360" cy="1531800"/>
          </a:xfrm>
        </p:grpSpPr>
        <p:sp>
          <p:nvSpPr>
            <p:cNvPr id="609" name=""/>
            <p:cNvSpPr/>
            <p:nvPr/>
          </p:nvSpPr>
          <p:spPr>
            <a:xfrm flipH="1">
              <a:off x="1980720" y="4343400"/>
              <a:ext cx="228600" cy="2286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981080" y="4343400"/>
              <a:ext cx="533520" cy="5335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980720" y="4387680"/>
              <a:ext cx="770040" cy="7700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981080" y="4572000"/>
              <a:ext cx="889200" cy="88884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981080" y="4800600"/>
              <a:ext cx="990720" cy="99072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209320" y="5029200"/>
              <a:ext cx="846360" cy="84600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514240" y="5257800"/>
              <a:ext cx="609480" cy="60948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819520" y="5562720"/>
              <a:ext cx="304560" cy="304560"/>
            </a:xfrm>
            <a:prstGeom prst="line">
              <a:avLst/>
            </a:prstGeom>
            <a:ln w="5400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257800" y="304920"/>
            <a:ext cx="34290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ielfunk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 = 2x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+ 3x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Bs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14 = 2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 + 3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1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de-DE" sz="1200" spc="-1" strike="noStrike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114300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98680" y="2470320"/>
            <a:ext cx="2539800" cy="3778200"/>
          </a:xfrm>
          <a:prstGeom prst="line">
            <a:avLst/>
          </a:prstGeom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1981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33"/>
                </a:solidFill>
                <a:latin typeface="Times New Roman"/>
              </a:rPr>
              <a:t>Z=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654560" y="3886200"/>
            <a:ext cx="402840" cy="533520"/>
            <a:chOff x="1654560" y="3886200"/>
            <a:chExt cx="402840" cy="533520"/>
          </a:xfrm>
        </p:grpSpPr>
        <p:sp>
          <p:nvSpPr>
            <p:cNvPr id="622" name=""/>
            <p:cNvSpPr/>
            <p:nvPr/>
          </p:nvSpPr>
          <p:spPr>
            <a:xfrm>
              <a:off x="165456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666880" y="3886200"/>
            <a:ext cx="385200" cy="533520"/>
            <a:chOff x="2666880" y="3886200"/>
            <a:chExt cx="385200" cy="533520"/>
          </a:xfrm>
        </p:grpSpPr>
        <p:sp>
          <p:nvSpPr>
            <p:cNvPr id="625" name=""/>
            <p:cNvSpPr/>
            <p:nvPr/>
          </p:nvSpPr>
          <p:spPr>
            <a:xfrm>
              <a:off x="266868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1654920" y="5791320"/>
            <a:ext cx="402480" cy="500760"/>
            <a:chOff x="1654920" y="5791320"/>
            <a:chExt cx="402480" cy="500760"/>
          </a:xfrm>
        </p:grpSpPr>
        <p:sp>
          <p:nvSpPr>
            <p:cNvPr id="628" name=""/>
            <p:cNvSpPr/>
            <p:nvPr/>
          </p:nvSpPr>
          <p:spPr>
            <a:xfrm>
              <a:off x="1654920" y="583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05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1066680" y="2470320"/>
            <a:ext cx="2540160" cy="3778200"/>
          </a:xfrm>
          <a:prstGeom prst="line">
            <a:avLst/>
          </a:prstGeom>
          <a:ln w="1260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2470320"/>
            <a:ext cx="2540160" cy="3778200"/>
          </a:xfrm>
          <a:prstGeom prst="line">
            <a:avLst/>
          </a:prstGeom>
          <a:ln w="1260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990720" y="2590920"/>
            <a:ext cx="45720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048120" y="5029200"/>
            <a:ext cx="478440" cy="500760"/>
            <a:chOff x="3048120" y="5029200"/>
            <a:chExt cx="478440" cy="500760"/>
          </a:xfrm>
        </p:grpSpPr>
        <p:sp>
          <p:nvSpPr>
            <p:cNvPr id="634" name=""/>
            <p:cNvSpPr/>
            <p:nvPr/>
          </p:nvSpPr>
          <p:spPr>
            <a:xfrm>
              <a:off x="312624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48120" y="502920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8120" y="5791320"/>
            <a:ext cx="444240" cy="500760"/>
            <a:chOff x="3048120" y="5791320"/>
            <a:chExt cx="444240" cy="500760"/>
          </a:xfrm>
        </p:grpSpPr>
        <p:sp>
          <p:nvSpPr>
            <p:cNvPr id="637" name=""/>
            <p:cNvSpPr/>
            <p:nvPr/>
          </p:nvSpPr>
          <p:spPr>
            <a:xfrm>
              <a:off x="3125880" y="5832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66ff33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8120" y="5791320"/>
              <a:ext cx="152280" cy="152280"/>
            </a:xfrm>
            <a:prstGeom prst="ellipse">
              <a:avLst/>
            </a:prstGeom>
            <a:noFill/>
            <a:ln cap="sq"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2:40:17Z</dcterms:created>
  <dc:creator>gerdoe</dc:creator>
  <dc:description/>
  <dc:language>en-US</dc:language>
  <cp:lastModifiedBy>gerdoe</cp:lastModifiedBy>
  <dcterms:modified xsi:type="dcterms:W3CDTF">2000-10-19T09:22:07Z</dcterms:modified>
  <cp:revision>25</cp:revision>
  <dc:subject/>
  <dc:title>PowerPoint-Präsentation</dc:title>
</cp:coreProperties>
</file>