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4B688-7D44-4A84-AE08-91714B3BB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4EF9-0551-429D-AC69-3232FA6F8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077D8-71CE-4437-8950-63BFB66B8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2AF1C-2E85-4A64-85E4-6470FA343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E16A2-1688-4AB4-ACDC-678F6DB1D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21C8E-093C-4641-BAF4-E15FCBB46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A60DD-1BF6-4D49-B305-B4B1EABC7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2E44D-3435-4BB9-B488-94152D2B6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92609-BBD2-4418-8BD8-4C6F26E38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3A17A-05AE-4071-BE86-CC32DBC57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2145B-0183-484B-A5E1-DEB669449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936C2-EAF3-4C5A-89FD-2B755D558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171C7-D202-4361-8CD3-7D79E9D92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74C69-0294-42DA-A861-F941CE383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5D182-96A4-4752-87E0-31BA95579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2790E-35C1-4DFF-82D7-4B5543D23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69DAD-6304-4B8A-BC21-9D66EC59D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75CAF-0078-4924-B455-C9351DCFA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99B6-08ED-4457-B92C-4F35D5B4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D3552-B33E-4559-9FC6-55BD863AA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A2D51-AE4D-49BA-9FBE-2C6BB1057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56A9-F2D9-46E1-B2BC-4A0167BAD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60A35-BB7B-4D1C-93DF-3F33937A4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113CE-5492-4984-8211-A919BF824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4068-0601-4CDC-A602-32232FCF6EB4}"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52A7-99C7-4957-B413-50B2AAF2A402}"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Aufgabe 2 Teil 1</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Fachhochschule Konstanz</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rtschaftsinformatik</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dolfo Navarro</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Aufgabenstellung</a:t>
            </a:r>
            <a:endParaRPr b="0" lang="en-US" sz="32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Ein betrieb fertigt die Produkte 1 und 2. Jedes Produkt bringt unterschiedliche Erlöse und verursacht unterschiedliche direkte Kosten. Damit sind auch die sich als Differenz von Erlösen und direkten Kosten ergebenden Deckungsbeiträge unterschiedlich hoch. Mit ihrer Summe sind die fixen Kosten von monatlich 36.000 DEM zu decken. Der Überschuß ist der Gewinn, der maximiert werden soll. Die Mengen der Produkte sind durch die Kapazitäten der Fertigungsmaschinen begrenzt. Es stehen die Maschinen A, B und C zu Verfügung.</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Aufgabenstellung</a:t>
            </a:r>
            <a:endParaRPr b="0" lang="en-US" sz="3200" spc="-1" strike="noStrike">
              <a:solidFill>
                <a:srgbClr val="660066"/>
              </a:solidFill>
              <a:latin typeface="Tahoma"/>
            </a:endParaRPr>
          </a:p>
        </p:txBody>
      </p:sp>
      <p:sp>
        <p:nvSpPr>
          <p:cNvPr id="2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Das Produkt 1 durchläuft die Maschinen A und B, die es je eine Stunde je Mengeneinheit belegt. Für die Fertigung des Produktes 2 werden je ME zwei Stunden auf A, eine Stunde auf B und drei Stunden auf C benötigt. Die Kapazität der Maschinen ergibt sich aus der monatlichen einschichtigen Arbeitszeit abzüglich der zu erwartenden Zeiten für Reparatur, Instandhaltung und Wartung.</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Aufgabenstellung</a:t>
            </a:r>
            <a:endParaRPr b="0" lang="en-US" sz="32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Gefragt ist nach denjenigen monatlichen zu erzeugenden Mengen der Produkte 1 und 2, für die sich unter Einhaltung der Kapazitätsgrenzen ein maximaler Gewinn ergibt. Die direkten Kosten und die Erlöse je Mengeneinheit sind mengenunabhängig.</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Lösung – Übersichtstabelle</a:t>
            </a:r>
            <a:endParaRPr b="0" lang="en-US" sz="3200" spc="-1" strike="noStrike">
              <a:solidFill>
                <a:srgbClr val="660066"/>
              </a:solidFill>
              <a:latin typeface="Tahoma"/>
            </a:endParaRPr>
          </a:p>
        </p:txBody>
      </p:sp>
      <p:graphicFrame>
        <p:nvGraphicFramePr>
          <p:cNvPr id="217" name=""/>
          <p:cNvGraphicFramePr/>
          <p:nvPr/>
        </p:nvGraphicFramePr>
        <p:xfrm>
          <a:off x="914400" y="1828800"/>
          <a:ext cx="7620120" cy="3614760"/>
        </p:xfrm>
        <a:graphic>
          <a:graphicData uri="http://schemas.openxmlformats.org/drawingml/2006/table">
            <a:tbl>
              <a:tblPr/>
              <a:tblGrid>
                <a:gridCol w="2133720"/>
                <a:gridCol w="1752480"/>
                <a:gridCol w="1219320"/>
                <a:gridCol w="1218960"/>
                <a:gridCol w="1295640"/>
              </a:tblGrid>
              <a:tr h="70380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Produkt1</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Produkt2</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Kapazität</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5320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Erlös(DEM/M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1000</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3000</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3352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Direkte Kosten</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700</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2500</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3352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Deckungsbeitrag</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300</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500</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8880">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Fertigungszeit in (h/ME) auf Maschin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A</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1</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2</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170</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1688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B</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1</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1</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150</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888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C</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3</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180</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Lösung – Annahmen und Restriktionen</a:t>
            </a:r>
            <a:endParaRPr b="0" lang="en-US" sz="32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x1 seien die hergestellten Einheiten des Produkts 1</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x2 seien die hergestellten Einheiten des Produkts 2</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x1, x2 &gt;=0</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Lösung – Annahmen und Restriktionen</a:t>
            </a:r>
            <a:endParaRPr b="0" lang="en-US" sz="3200" spc="-1" strike="noStrike">
              <a:solidFill>
                <a:srgbClr val="660066"/>
              </a:solidFill>
              <a:latin typeface="Tahoma"/>
            </a:endParaRPr>
          </a:p>
        </p:txBody>
      </p:sp>
      <p:sp>
        <p:nvSpPr>
          <p:cNvPr id="221" name="PlaceHolder 2"/>
          <p:cNvSpPr>
            <a:spLocks noGrp="1"/>
          </p:cNvSpPr>
          <p:nvPr>
            <p:ph/>
          </p:nvPr>
        </p:nvSpPr>
        <p:spPr>
          <a:xfrm>
            <a:off x="4343040" y="4038480"/>
            <a:ext cx="4343400" cy="236232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1*x1+2*x2 &lt;= 170</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1*x1+1*x2 &lt;= 150</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3*x2 &lt;= 180</a:t>
            </a:r>
            <a:endParaRPr b="0" lang="en-US" sz="3200" spc="-1" strike="noStrike">
              <a:solidFill>
                <a:srgbClr val="40458c"/>
              </a:solidFill>
              <a:latin typeface="Tahoma"/>
            </a:endParaRPr>
          </a:p>
        </p:txBody>
      </p:sp>
      <p:sp>
        <p:nvSpPr>
          <p:cNvPr id="222" name=""/>
          <p:cNvSpPr/>
          <p:nvPr/>
        </p:nvSpPr>
        <p:spPr>
          <a:xfrm>
            <a:off x="3886200" y="3962520"/>
            <a:ext cx="380880" cy="2666880"/>
          </a:xfrm>
          <a:custGeom>
            <a:avLst/>
            <a:gdLst>
              <a:gd name="textAreaLeft" fmla="*/ 243360 w 380880"/>
              <a:gd name="textAreaRight" fmla="*/ 381240 w 3808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3" name=""/>
          <p:cNvSpPr/>
          <p:nvPr/>
        </p:nvSpPr>
        <p:spPr>
          <a:xfrm>
            <a:off x="609480" y="4419720"/>
            <a:ext cx="3353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Es dürfen ja höchstens die zur Verfügung stehenden Menge der einzelnen Maschinen benutzt werden</a:t>
            </a:r>
            <a:endParaRPr b="0" lang="en-US" sz="2400" spc="-1" strike="noStrike">
              <a:solidFill>
                <a:srgbClr val="40458c"/>
              </a:solidFill>
              <a:latin typeface="Times New Roman"/>
            </a:endParaRPr>
          </a:p>
        </p:txBody>
      </p:sp>
      <p:graphicFrame>
        <p:nvGraphicFramePr>
          <p:cNvPr id="224" name=""/>
          <p:cNvGraphicFramePr/>
          <p:nvPr/>
        </p:nvGraphicFramePr>
        <p:xfrm>
          <a:off x="914400" y="1828800"/>
          <a:ext cx="4800600" cy="1984320"/>
        </p:xfrm>
        <a:graphic>
          <a:graphicData uri="http://schemas.openxmlformats.org/drawingml/2006/table">
            <a:tbl>
              <a:tblPr/>
              <a:tblGrid>
                <a:gridCol w="1344600"/>
                <a:gridCol w="1103400"/>
                <a:gridCol w="768240"/>
                <a:gridCol w="768240"/>
                <a:gridCol w="816120"/>
              </a:tblGrid>
              <a:tr h="33876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Produkt1</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Produkt2</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Kapazität</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30096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Erlös(DEM/ME)</a:t>
                      </a:r>
                      <a:endParaRPr b="0" lang="en-US" sz="1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0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30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0420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Direkte Kosten</a:t>
                      </a:r>
                      <a:endParaRPr b="0" lang="en-US" sz="1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7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25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0276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Deckungsbeitrag</a:t>
                      </a:r>
                      <a:endParaRPr b="0" lang="en-US" sz="1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3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5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46240">
                <a:tc row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Fertigungszeit in (h/ME) auf Maschine</a:t>
                      </a:r>
                      <a:endParaRPr b="0" lang="en-US" sz="1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A</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2</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70</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24624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B</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50</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24624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C</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3</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80</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cfdbf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Lösung – Annahmen und Restriktionen</a:t>
            </a:r>
            <a:endParaRPr b="0" lang="en-US" sz="3200" spc="-1" strike="noStrike">
              <a:solidFill>
                <a:srgbClr val="660066"/>
              </a:solidFill>
              <a:latin typeface="Tahoma"/>
            </a:endParaRPr>
          </a:p>
        </p:txBody>
      </p:sp>
      <p:sp>
        <p:nvSpPr>
          <p:cNvPr id="226" name="PlaceHolder 2"/>
          <p:cNvSpPr>
            <a:spLocks noGrp="1"/>
          </p:cNvSpPr>
          <p:nvPr>
            <p:ph/>
          </p:nvPr>
        </p:nvSpPr>
        <p:spPr>
          <a:xfrm>
            <a:off x="4343040" y="4038480"/>
            <a:ext cx="4343400" cy="2362320"/>
          </a:xfrm>
          <a:prstGeom prst="rect">
            <a:avLst/>
          </a:prstGeom>
          <a:noFill/>
          <a:ln w="0">
            <a:noFill/>
          </a:ln>
        </p:spPr>
        <p:txBody>
          <a:bodyPr lIns="90000" rIns="90000" tIns="46800" bIns="46800" anchor="t">
            <a:normAutofit/>
          </a:bodyPr>
          <a:p>
            <a:pPr marL="343080" indent="-343080">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0458c"/>
                </a:solidFill>
                <a:latin typeface="Tahoma"/>
              </a:rPr>
              <a:t>300*x1+500*x2 -&gt; max!</a:t>
            </a:r>
            <a:endParaRPr b="0" lang="en-US" sz="2600" spc="-1" strike="noStrike">
              <a:solidFill>
                <a:srgbClr val="40458c"/>
              </a:solidFill>
              <a:latin typeface="Tahoma"/>
            </a:endParaRPr>
          </a:p>
        </p:txBody>
      </p:sp>
      <p:sp>
        <p:nvSpPr>
          <p:cNvPr id="227" name=""/>
          <p:cNvSpPr/>
          <p:nvPr/>
        </p:nvSpPr>
        <p:spPr>
          <a:xfrm>
            <a:off x="3886200" y="3962520"/>
            <a:ext cx="380880" cy="2666880"/>
          </a:xfrm>
          <a:custGeom>
            <a:avLst/>
            <a:gdLst>
              <a:gd name="textAreaLeft" fmla="*/ 243360 w 380880"/>
              <a:gd name="textAreaRight" fmla="*/ 381240 w 3808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609480" y="4419720"/>
            <a:ext cx="335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Da der höchste Gewinn erzielt werden soll</a:t>
            </a:r>
            <a:endParaRPr b="0" lang="en-US" sz="2400" spc="-1" strike="noStrike">
              <a:solidFill>
                <a:srgbClr val="40458c"/>
              </a:solidFill>
              <a:latin typeface="Times New Roman"/>
            </a:endParaRPr>
          </a:p>
        </p:txBody>
      </p:sp>
      <p:graphicFrame>
        <p:nvGraphicFramePr>
          <p:cNvPr id="229" name=""/>
          <p:cNvGraphicFramePr/>
          <p:nvPr/>
        </p:nvGraphicFramePr>
        <p:xfrm>
          <a:off x="914400" y="1828800"/>
          <a:ext cx="4800600" cy="1984320"/>
        </p:xfrm>
        <a:graphic>
          <a:graphicData uri="http://schemas.openxmlformats.org/drawingml/2006/table">
            <a:tbl>
              <a:tblPr/>
              <a:tblGrid>
                <a:gridCol w="1344600"/>
                <a:gridCol w="1103400"/>
                <a:gridCol w="768240"/>
                <a:gridCol w="768240"/>
                <a:gridCol w="816120"/>
              </a:tblGrid>
              <a:tr h="33876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Produkt1</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Produkt2</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Kapazität</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30096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Erlös(DEM/ME)</a:t>
                      </a:r>
                      <a:endParaRPr b="0" lang="en-US" sz="1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0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30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0420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Direkte Kosten</a:t>
                      </a:r>
                      <a:endParaRPr b="0" lang="en-US" sz="1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7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25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0276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Deckungsbeitrag</a:t>
                      </a:r>
                      <a:endParaRPr b="0" lang="en-US" sz="1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3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500</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46240">
                <a:tc row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Fertigungszeit in (h/ME) auf Maschine</a:t>
                      </a:r>
                      <a:endParaRPr b="0" lang="en-US" sz="1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A</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2</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70</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4624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B</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50</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4624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C</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3</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180</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Lösung - Ergebnis</a:t>
            </a:r>
            <a:endParaRPr b="0" lang="en-US" sz="4400" spc="-1" strike="noStrike">
              <a:solidFill>
                <a:srgbClr val="660066"/>
              </a:solidFill>
              <a:latin typeface="Tahoma"/>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Value of objective function:            49000</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x1                     130</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x2                      20</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Es müssen also 130 Einheiten von Produkt 1 und 20 Einheiten von Produkt 2 damit einen maximalen Gewinn erzielt wird, nämlich:</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49.000 – 30.000 (monatl. Fixkosten) = 19.000 DEM</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3T10:44:53Z</dcterms:created>
  <dc:creator>navarro</dc:creator>
  <dc:description/>
  <dc:language>en-US</dc:language>
  <cp:lastModifiedBy>navarro</cp:lastModifiedBy>
  <dcterms:modified xsi:type="dcterms:W3CDTF">2000-11-23T13:28:43Z</dcterms:modified>
  <cp:revision>12</cp:revision>
  <dc:subject/>
  <dc:title>Aufgabe 1 Teil 1</dc:title>
</cp:coreProperties>
</file>