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DAB-39B2-4EA2-8206-23C33C8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990-92AA-4979-B791-D6E838A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DBA-5482-4F7E-8133-C5BE3A57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986-E0D5-480F-BEB0-3CB47D8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915-51CE-4E5E-A755-364C0E57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45AF-1926-4F7A-BDB3-D3220E23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81FC-006B-4E00-8F99-E9E4F7D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F48F-BE1A-4FD8-93B6-3DD29B6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3AE-86AF-4495-89FA-720FBA5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A86-F6FA-431D-872B-EB0A05BD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1AA0-54B7-4CAC-B2FE-4DE4C25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FB7-7696-48CF-8F77-6D9365E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D2B1-1199-4690-B887-266A10D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9BC2-E054-46CE-8CEF-1E02292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2AEB-EBF5-4317-AD4B-F687B53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F92-99D5-4595-B93E-6A494815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5AA8-8BCC-4A16-8AFA-0A92404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F2D-CE93-4D7D-9DEE-49D1F66E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36C-9548-43E2-856B-BCB24A11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7DB-3207-4C61-9736-CB27579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BF5-3F6B-4045-A9DD-39331FE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EFA-AD21-43D6-90B4-A62B83E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326-70DC-40C6-80C7-A2AAFB8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655-196F-4DE7-AD4B-9E8BE63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4EE-F2E2-4491-A8AB-44B06C2AE98E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796-71CC-4211-AB46-A5E9CAE7432F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fgabenstellu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895480"/>
            <a:ext cx="746784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s sollen 650 Personen mit Flugzeugen befordert werden. Zwei Typen von Flugzeugen stehen zur Verfügung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1 faßt 25 Passagiere und benötigt 3 Besatzungsmitglieder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2 kann 65 Passagiere transportieren und benötigt 5 Besatzungsmitglie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1 kostet 10000 DM je Maschine und Flug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2 kostet 18000 DM je Maschine und Flug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s stehen nur 60 Mann Bordpersonal zur Verfüg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Wieviele Flüge werden mit beiden Flugzeugtypen durchgeführt, wenn die Transportkosten minimiert werden sollen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Geben Sie zur Beantwortung dieser Frage einen Ansatz der linearen Programmierung an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ransformation der Informationen in ein Gleichungssyst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181480"/>
            <a:ext cx="8380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352680"/>
            <a:ext cx="73911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650 Passagiere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1 faßt 25 Passagiere und benötigt 3 Besatzungsmitglieder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2 kann 65 Passagiere transportieren und benötigt 5 Besatzungsmitglie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1 kostet 10000 DM je Maschine und Flug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yp 2 kostet 18000 DM je Maschine und Flug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s stehen nur 60 Mann Bordpersonal zur Verfüg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58672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gt;=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541008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2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65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65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6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10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18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&gt; 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28954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gt;=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438280"/>
            <a:ext cx="28958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1) 2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65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65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2) 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6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3) 10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18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&gt; 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aphische Lösu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14640" y="2865600"/>
            <a:ext cx="4567320" cy="3655800"/>
          </a:xfrm>
          <a:custGeom>
            <a:avLst/>
            <a:gdLst/>
            <a:ahLst/>
            <a:rect l="l" t="t" r="r" b="b"/>
            <a:pathLst>
              <a:path w="2877" h="2303">
                <a:moveTo>
                  <a:pt x="0" y="0"/>
                </a:moveTo>
                <a:lnTo>
                  <a:pt x="0" y="2303"/>
                </a:lnTo>
                <a:lnTo>
                  <a:pt x="2877" y="2303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694400"/>
            <a:ext cx="57240" cy="1827000"/>
          </a:xfrm>
          <a:custGeom>
            <a:avLst/>
            <a:gdLst/>
            <a:ahLst/>
            <a:rect l="l" t="t" r="r" b="b"/>
            <a:pathLst>
              <a:path w="36" h="1151">
                <a:moveTo>
                  <a:pt x="36" y="1151"/>
                </a:moveTo>
                <a:lnTo>
                  <a:pt x="3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71800" y="5607000"/>
            <a:ext cx="4284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94680" y="4602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14640" y="6521400"/>
            <a:ext cx="1827000" cy="55440"/>
          </a:xfrm>
          <a:custGeom>
            <a:avLst/>
            <a:gdLst/>
            <a:ahLst/>
            <a:rect l="l" t="t" r="r" b="b"/>
            <a:pathLst>
              <a:path w="1151" h="35">
                <a:moveTo>
                  <a:pt x="0" y="0"/>
                </a:moveTo>
                <a:lnTo>
                  <a:pt x="1151" y="0"/>
                </a:lnTo>
                <a:lnTo>
                  <a:pt x="1151" y="35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29040" y="6521040"/>
            <a:ext cx="1440" cy="42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49120" y="655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114640" y="2949480"/>
            <a:ext cx="1440" cy="1516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71800" y="2878200"/>
            <a:ext cx="83880" cy="81000"/>
          </a:xfrm>
          <a:custGeom>
            <a:avLst/>
            <a:gdLst/>
            <a:ahLst/>
            <a:rect l="l" t="t" r="r" b="b"/>
            <a:pathLst>
              <a:path w="53" h="51">
                <a:moveTo>
                  <a:pt x="0" y="51"/>
                </a:moveTo>
                <a:lnTo>
                  <a:pt x="27" y="0"/>
                </a:lnTo>
                <a:lnTo>
                  <a:pt x="53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812240" y="36979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80"/>
                </a:solidFill>
                <a:latin typeface="Arial"/>
              </a:rPr>
              <a:t>Y-Axi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70920" y="6481800"/>
            <a:ext cx="83880" cy="81000"/>
          </a:xfrm>
          <a:custGeom>
            <a:avLst/>
            <a:gdLst/>
            <a:ahLst/>
            <a:rect l="l" t="t" r="r" b="b"/>
            <a:pathLst>
              <a:path w="53" h="51">
                <a:moveTo>
                  <a:pt x="0" y="0"/>
                </a:moveTo>
                <a:lnTo>
                  <a:pt x="53" y="25"/>
                </a:lnTo>
                <a:lnTo>
                  <a:pt x="0" y="51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72280" y="65689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80"/>
                </a:solidFill>
                <a:latin typeface="Arial"/>
              </a:rPr>
              <a:t>X-Axi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4640" y="4237200"/>
            <a:ext cx="3654360" cy="22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1960" y="41911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14640" y="4694400"/>
            <a:ext cx="4795920" cy="18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4720" y="6521400"/>
            <a:ext cx="628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96080" y="652140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3280" y="6521400"/>
            <a:ext cx="11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520" y="60199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8880" y="5321160"/>
            <a:ext cx="2338560" cy="1428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8880" y="4406760"/>
            <a:ext cx="3936960" cy="234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58880" y="4863960"/>
            <a:ext cx="3138480" cy="1886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4640" y="4694400"/>
            <a:ext cx="1923840" cy="715680"/>
          </a:xfrm>
          <a:custGeom>
            <a:avLst/>
            <a:gdLst/>
            <a:ahLst/>
            <a:rect l="l" t="t" r="r" b="b"/>
            <a:pathLst>
              <a:path w="1151" h="431">
                <a:moveTo>
                  <a:pt x="0" y="0"/>
                </a:moveTo>
                <a:lnTo>
                  <a:pt x="1151" y="431"/>
                </a:lnTo>
                <a:lnTo>
                  <a:pt x="1148" y="427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419720"/>
            <a:ext cx="28954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Graphische Lösung: 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10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5181480"/>
            <a:ext cx="42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186600"/>
            <a:ext cx="42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814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814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3280" y="5181480"/>
            <a:ext cx="424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516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97360" y="5181480"/>
            <a:ext cx="425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2880" y="5181480"/>
            <a:ext cx="42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45160" y="5181480"/>
            <a:ext cx="42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0320" y="5181480"/>
            <a:ext cx="424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516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3280" y="6186600"/>
            <a:ext cx="424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97360" y="6186600"/>
            <a:ext cx="425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2880" y="6186600"/>
            <a:ext cx="42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45160" y="6186600"/>
            <a:ext cx="42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70320" y="6186600"/>
            <a:ext cx="424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94400" y="6186600"/>
            <a:ext cx="425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chnerische Lösu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533520"/>
            <a:ext cx="37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373392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2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65 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= 65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3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5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&lt;= 60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10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+ 18000x</a:t>
            </a:r>
            <a:r>
              <a:rPr b="0" lang="de-DE" sz="1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-&gt; 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www-stud.fh-konstanz.de/banzhaf/or/teil1_aufg15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www-stud.fh-konstanz.de/banzhaf/or/teil1_aufg15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screenshot_ausgangstableau_aufg15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8483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ufgabe 1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324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Michael Banzhaf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www-stud.fh-konstanz.de/banzhaf/or/teil1_aufg15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screenshot_solver_aufg15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8001000" cy="5057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2971800" y="3429000"/>
            <a:ext cx="4419720" cy="1285200"/>
            <a:chOff x="2971800" y="3429000"/>
            <a:chExt cx="4419720" cy="1285200"/>
          </a:xfrm>
        </p:grpSpPr>
        <p:sp>
          <p:nvSpPr>
            <p:cNvPr id="163" name=""/>
            <p:cNvSpPr/>
            <p:nvPr/>
          </p:nvSpPr>
          <p:spPr>
            <a:xfrm>
              <a:off x="2971800" y="3429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3429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5" name=""/>
            <p:cNvCxnSpPr>
              <a:stCxn id="163" idx="4"/>
              <a:endCxn id="164" idx="3"/>
            </p:cNvCxnSpPr>
            <p:nvPr/>
          </p:nvCxnSpPr>
          <p:spPr>
            <a:xfrm flipH="1" flipV="1" rot="5400000">
              <a:off x="5104800" y="1720440"/>
              <a:ext cx="45360" cy="4007520"/>
            </a:xfrm>
            <a:prstGeom prst="curvedConnector5">
              <a:avLst>
                <a:gd name="adj1" fmla="val -1224800"/>
                <a:gd name="adj2" fmla="val 49995"/>
                <a:gd name="adj3" fmla="val -1224800"/>
              </a:avLst>
            </a:prstGeom>
            <a:ln w="25560">
              <a:solidFill>
                <a:srgbClr val="ff33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3962520" y="4343400"/>
              <a:ext cx="3124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Lösung: x</a:t>
              </a:r>
              <a:r>
                <a:rPr b="0" lang="de-DE" sz="16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de-DE" sz="1600" spc="-1" strike="noStrike">
                  <a:solidFill>
                    <a:srgbClr val="ff3300"/>
                  </a:solidFill>
                  <a:latin typeface="Arial"/>
                </a:rPr>
                <a:t> = 1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3:27:21Z</dcterms:created>
  <dc:creator>Michael</dc:creator>
  <dc:description/>
  <dc:language>en-US</dc:language>
  <cp:lastModifiedBy>edwin</cp:lastModifiedBy>
  <dcterms:modified xsi:type="dcterms:W3CDTF">2000-11-02T20:52:33Z</dcterms:modified>
  <cp:revision>35</cp:revision>
  <dc:subject/>
  <dc:title>Aufgabe 12</dc:title>
</cp:coreProperties>
</file>