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6494-9DB1-4FED-9DC0-3F5F4A2A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9FC1-1B5C-422A-BB3E-AA46A5D6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655F-5D89-48E4-BB4C-026E4D37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35D-BDA6-4ADB-B0C2-8234BB18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2265-DB8C-48ED-8F95-AFDB0D82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58D1-FCCB-46D1-937F-50ECCB19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B12A-BA73-46E2-A69B-EB5E700A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3F2F-DEF4-4D6F-9249-BDEFE58D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0831-014D-40B2-AADA-977ABCD2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B293-3789-41F2-9A16-99ED07D5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33AF-447E-46FF-B04A-C82771A6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D3A0-52C9-4751-83A9-0E85069E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E474-B614-462C-B32C-71D13A15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F43F-65E0-49C2-885E-501C2221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60E6-CABF-4D6C-8E61-AF18B364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7036-E439-472C-B82B-5905FEA0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4865-5EBB-4F04-9450-C50D2470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647B-67C8-4E8C-8062-CCFF64F8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16A2-11AF-4A7A-8E07-9B4D66AD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D821-006C-4161-91C1-6A7D8187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6E1-2502-4F5F-90A7-E1E5F5F5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2AF-2A9A-4199-ACE1-AF7CAA8E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970-18A3-4136-9725-B1F6E5BD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0B9-9302-4B7D-B890-6E3E378B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AE28-1C39-417B-9E2D-2D418A3EB3A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FACC-51FB-4598-AE56-C1E8C9A044A7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1219320"/>
            <a:ext cx="8077320" cy="4952880"/>
          </a:xfrm>
          <a:prstGeom prst="rect">
            <a:avLst/>
          </a:prstGeom>
          <a:solidFill>
            <a:srgbClr val="0033cc"/>
          </a:solidFill>
          <a:ln w="0">
            <a:noFill/>
          </a:ln>
          <a:effectLst>
            <a:outerShdw dist="17819" dir="2700000" blurRad="0" rotWithShape="0">
              <a:srgbClr val="00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1447920"/>
            <a:ext cx="7086600" cy="2361960"/>
          </a:xfrm>
          <a:prstGeom prst="rect">
            <a:avLst/>
          </a:prstGeom>
          <a:solidFill>
            <a:srgbClr val="0033cc"/>
          </a:solidFill>
          <a:ln w="0">
            <a:noFill/>
          </a:ln>
          <a:effectLst>
            <a:outerShdw dist="153753" dir="2700000" blurRad="0" rotWithShape="0">
              <a:srgbClr val="00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7320" y="457200"/>
            <a:ext cx="38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ufgabenteil 1  Aufgabe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1720" y="1371600"/>
            <a:ext cx="800496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Gegeben sei folg. LP-Ansatz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ZF: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4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– 3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+ 2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+ 5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NB1: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3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– 3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+ 1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&lt;=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NB2: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2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+ 4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+ 2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&lt;=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NNB: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, 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, 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&gt;=0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4038480"/>
            <a:ext cx="7086600" cy="1981440"/>
          </a:xfrm>
          <a:prstGeom prst="rect">
            <a:avLst/>
          </a:prstGeom>
          <a:solidFill>
            <a:srgbClr val="0033cc"/>
          </a:solidFill>
          <a:ln w="0">
            <a:noFill/>
          </a:ln>
          <a:effectLst>
            <a:outerShdw dist="153753" dir="2700000" blurRad="0" rotWithShape="0">
              <a:srgbClr val="00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07880" y="4114800"/>
            <a:ext cx="64580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Wie kann die ZF vereinfacht werd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Bilden Sie bei den NB mittels HV Gleichheitsrestriktione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Wie lauten die ZF-Koeffizienten der HV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Geben Sie die Werte der BV und der NBV der in b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gebildeten Basislösung 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19320"/>
            <a:ext cx="8458200" cy="4952880"/>
          </a:xfrm>
          <a:prstGeom prst="rect">
            <a:avLst/>
          </a:prstGeom>
          <a:solidFill>
            <a:srgbClr val="0033cc"/>
          </a:solidFill>
          <a:ln w="0">
            <a:noFill/>
          </a:ln>
          <a:effectLst>
            <a:outerShdw dist="17819" dir="2700000" blurRad="0" rotWithShape="0">
              <a:srgbClr val="00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1676520"/>
            <a:ext cx="7239240" cy="3962160"/>
          </a:xfrm>
          <a:prstGeom prst="rect">
            <a:avLst/>
          </a:prstGeom>
          <a:solidFill>
            <a:srgbClr val="0033cc"/>
          </a:solidFill>
          <a:ln w="0">
            <a:noFill/>
          </a:ln>
          <a:effectLst>
            <a:outerShdw dist="153753" dir="2700000" blurRad="0" rotWithShape="0">
              <a:srgbClr val="00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5040" y="766800"/>
            <a:ext cx="56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Wie kann die ZF vereinfacht werd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1200" y="2057400"/>
            <a:ext cx="66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ZF: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4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– 3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+ 2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+ 5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1200" y="4952880"/>
            <a:ext cx="66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ZF: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4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– 3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+ 2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281952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Fixanteile können zunächst ignoriert werde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Nach Optimierung der ZF um Fixanteil ergän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114800" y="1981080"/>
            <a:ext cx="1460520" cy="3505320"/>
            <a:chOff x="4114800" y="1981080"/>
            <a:chExt cx="1460520" cy="3505320"/>
          </a:xfrm>
        </p:grpSpPr>
        <p:sp>
          <p:nvSpPr>
            <p:cNvPr id="99" name=""/>
            <p:cNvSpPr/>
            <p:nvPr/>
          </p:nvSpPr>
          <p:spPr>
            <a:xfrm>
              <a:off x="4648320" y="2362320"/>
              <a:ext cx="927000" cy="2590560"/>
            </a:xfrm>
            <a:custGeom>
              <a:avLst/>
              <a:gdLst/>
              <a:ahLst/>
              <a:rect l="l" t="t" r="r" b="b"/>
              <a:pathLst>
                <a:path w="584" h="1632">
                  <a:moveTo>
                    <a:pt x="48" y="0"/>
                  </a:moveTo>
                  <a:cubicBezTo>
                    <a:pt x="316" y="344"/>
                    <a:pt x="584" y="688"/>
                    <a:pt x="576" y="960"/>
                  </a:cubicBezTo>
                  <a:cubicBezTo>
                    <a:pt x="568" y="1232"/>
                    <a:pt x="284" y="1432"/>
                    <a:pt x="0" y="1632"/>
                  </a:cubicBezTo>
                </a:path>
              </a:pathLst>
            </a:custGeom>
            <a:noFill/>
            <a:ln cap="sq" w="28440">
              <a:solidFill>
                <a:srgbClr val="ff456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4800" y="1981080"/>
              <a:ext cx="609480" cy="609840"/>
            </a:xfrm>
            <a:prstGeom prst="ellipse">
              <a:avLst/>
            </a:prstGeom>
            <a:noFill/>
            <a:ln cap="sq" w="2844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4800" y="4876920"/>
              <a:ext cx="609480" cy="609480"/>
            </a:xfrm>
            <a:prstGeom prst="ellipse">
              <a:avLst/>
            </a:prstGeom>
            <a:noFill/>
            <a:ln cap="sq" w="2844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1828800"/>
            <a:ext cx="8077320" cy="2362320"/>
          </a:xfrm>
          <a:prstGeom prst="rect">
            <a:avLst/>
          </a:prstGeom>
          <a:solidFill>
            <a:srgbClr val="0033cc"/>
          </a:solidFill>
          <a:ln w="0">
            <a:noFill/>
          </a:ln>
          <a:effectLst>
            <a:outerShdw dist="17819" dir="2700000" blurRad="0" rotWithShape="0">
              <a:srgbClr val="00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209680"/>
            <a:ext cx="6705360" cy="1524240"/>
          </a:xfrm>
          <a:prstGeom prst="rect">
            <a:avLst/>
          </a:prstGeom>
          <a:solidFill>
            <a:srgbClr val="0033cc"/>
          </a:solidFill>
          <a:ln w="0">
            <a:noFill/>
          </a:ln>
          <a:effectLst>
            <a:outerShdw dist="153753" dir="2700000" blurRad="0" rotWithShape="0">
              <a:srgbClr val="00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68400" y="762120"/>
            <a:ext cx="932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Bilden Sie bei den NB mittels HV Gleichheitsrestriktionen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4800" y="2530440"/>
            <a:ext cx="566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NB1: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3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– 3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+ 1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NB2: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2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+ 4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+ 2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25304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+ 1x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0560" y="28861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+ 1x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491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6800" y="28954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&lt;=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6440" y="2514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&lt;=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16800" y="2895480"/>
            <a:ext cx="1038600" cy="459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=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16440" y="2514600"/>
            <a:ext cx="869400" cy="459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=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1219320"/>
            <a:ext cx="8077320" cy="4647960"/>
          </a:xfrm>
          <a:prstGeom prst="rect">
            <a:avLst/>
          </a:prstGeom>
          <a:solidFill>
            <a:srgbClr val="0033cc"/>
          </a:solidFill>
          <a:ln w="0">
            <a:noFill/>
          </a:ln>
          <a:effectLst>
            <a:outerShdw dist="17819" dir="2700000" blurRad="0" rotWithShape="0">
              <a:srgbClr val="00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447920"/>
            <a:ext cx="7086600" cy="4038480"/>
          </a:xfrm>
          <a:prstGeom prst="rect">
            <a:avLst/>
          </a:prstGeom>
          <a:solidFill>
            <a:srgbClr val="0033cc"/>
          </a:solidFill>
          <a:ln w="0">
            <a:noFill/>
          </a:ln>
          <a:effectLst>
            <a:outerShdw dist="153753" dir="2700000" blurRad="0" rotWithShape="0">
              <a:srgbClr val="00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1280" y="762120"/>
            <a:ext cx="70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Wie lauten die ZF-Koeffizienten der HV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144800" y="2514600"/>
            <a:ext cx="6522840" cy="841320"/>
            <a:chOff x="1144800" y="2514600"/>
            <a:chExt cx="6522840" cy="841320"/>
          </a:xfrm>
        </p:grpSpPr>
        <p:sp>
          <p:nvSpPr>
            <p:cNvPr id="117" name=""/>
            <p:cNvSpPr/>
            <p:nvPr/>
          </p:nvSpPr>
          <p:spPr>
            <a:xfrm>
              <a:off x="1144800" y="2530440"/>
              <a:ext cx="566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NB1:</a:t>
              </a: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3x</a:t>
              </a:r>
              <a:r>
                <a:rPr b="0" lang="de-DE" sz="12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 – 3x</a:t>
              </a:r>
              <a:r>
                <a:rPr b="0" lang="de-DE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 + 1x</a:t>
              </a:r>
              <a:r>
                <a:rPr b="0" lang="de-DE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NB2:</a:t>
              </a: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2x</a:t>
              </a:r>
              <a:r>
                <a:rPr b="0" lang="de-DE" sz="12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 + 4x</a:t>
              </a:r>
              <a:r>
                <a:rPr b="0" lang="de-DE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 + 2x</a:t>
              </a:r>
              <a:r>
                <a:rPr b="0" lang="de-DE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15160" y="2530440"/>
              <a:ext cx="85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+ 1x</a:t>
              </a:r>
              <a:r>
                <a:rPr b="0" lang="de-DE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29480" y="2886120"/>
              <a:ext cx="85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+ 1x</a:t>
              </a:r>
              <a:r>
                <a:rPr b="0" lang="de-DE" sz="12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06800" y="289548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&lt;= 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06440" y="25146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&lt;= 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16800" y="2895480"/>
              <a:ext cx="1038600" cy="459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= 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16440" y="2514600"/>
              <a:ext cx="869400" cy="459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de-DE" sz="2400" spc="-1" strike="noStrike">
                  <a:solidFill>
                    <a:srgbClr val="ffff00"/>
                  </a:solidFill>
                  <a:latin typeface="Arial"/>
                </a:rPr>
                <a:t>= 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31828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426640" y="1600200"/>
            <a:ext cx="2076480" cy="3530520"/>
            <a:chOff x="5426640" y="1600200"/>
            <a:chExt cx="2076480" cy="3530520"/>
          </a:xfrm>
        </p:grpSpPr>
        <p:sp>
          <p:nvSpPr>
            <p:cNvPr id="126" name=""/>
            <p:cNvSpPr/>
            <p:nvPr/>
          </p:nvSpPr>
          <p:spPr>
            <a:xfrm>
              <a:off x="5664240" y="1600200"/>
              <a:ext cx="228600" cy="609480"/>
            </a:xfrm>
            <a:prstGeom prst="ellipse">
              <a:avLst/>
            </a:prstGeom>
            <a:noFill/>
            <a:ln cap="sq" w="3816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26640" y="4305240"/>
              <a:ext cx="207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4568"/>
                  </a:solidFill>
                  <a:latin typeface="Arial"/>
                </a:rPr>
                <a:t>ZF-Koeffiz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4568"/>
                  </a:solidFill>
                  <a:latin typeface="Arial"/>
                </a:rPr>
                <a:t>x</a:t>
              </a:r>
              <a:r>
                <a:rPr b="0" lang="de-DE" sz="1200" spc="-1" strike="noStrike">
                  <a:solidFill>
                    <a:srgbClr val="ff4568"/>
                  </a:solidFill>
                  <a:latin typeface="Arial"/>
                </a:rPr>
                <a:t>5 </a:t>
              </a:r>
              <a:r>
                <a:rPr b="0" lang="de-DE" sz="2400" spc="-1" strike="noStrike">
                  <a:solidFill>
                    <a:srgbClr val="ff4568"/>
                  </a:solidFill>
                  <a:latin typeface="Arial"/>
                </a:rPr>
                <a:t>=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5790240" y="2211120"/>
              <a:ext cx="157320" cy="1996920"/>
            </a:xfrm>
            <a:prstGeom prst="line">
              <a:avLst/>
            </a:prstGeom>
            <a:ln cap="sq" w="19080">
              <a:solidFill>
                <a:srgbClr val="ff456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60320" y="1676520"/>
            <a:ext cx="75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ZF: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4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– 3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+ 2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+ 5 + 0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4 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+ 0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982880" y="1600200"/>
            <a:ext cx="3186000" cy="3532320"/>
            <a:chOff x="1982880" y="1600200"/>
            <a:chExt cx="3186000" cy="3532320"/>
          </a:xfrm>
        </p:grpSpPr>
        <p:sp>
          <p:nvSpPr>
            <p:cNvPr id="131" name=""/>
            <p:cNvSpPr/>
            <p:nvPr/>
          </p:nvSpPr>
          <p:spPr>
            <a:xfrm>
              <a:off x="4940280" y="1600200"/>
              <a:ext cx="228600" cy="609480"/>
            </a:xfrm>
            <a:prstGeom prst="ellipse">
              <a:avLst/>
            </a:prstGeom>
            <a:noFill/>
            <a:ln cap="sq" w="3816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82880" y="4307040"/>
              <a:ext cx="216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4568"/>
                  </a:solidFill>
                  <a:latin typeface="Arial"/>
                </a:rPr>
                <a:t>ZF-Koeffizient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4568"/>
                  </a:solidFill>
                  <a:latin typeface="Arial"/>
                </a:rPr>
                <a:t>x</a:t>
              </a:r>
              <a:r>
                <a:rPr b="0" lang="de-DE" sz="1200" spc="-1" strike="noStrike">
                  <a:solidFill>
                    <a:srgbClr val="ff4568"/>
                  </a:solidFill>
                  <a:latin typeface="Arial"/>
                </a:rPr>
                <a:t>4 </a:t>
              </a:r>
              <a:r>
                <a:rPr b="0" lang="de-DE" sz="2400" spc="-1" strike="noStrike">
                  <a:solidFill>
                    <a:srgbClr val="ff4568"/>
                  </a:solidFill>
                  <a:latin typeface="Arial"/>
                </a:rPr>
                <a:t>=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733920" y="2209320"/>
              <a:ext cx="1143000" cy="2057400"/>
            </a:xfrm>
            <a:prstGeom prst="line">
              <a:avLst/>
            </a:prstGeom>
            <a:ln cap="sq" w="28440">
              <a:solidFill>
                <a:srgbClr val="ff4568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8080" y="1828800"/>
            <a:ext cx="7696440" cy="4038480"/>
          </a:xfrm>
          <a:prstGeom prst="rect">
            <a:avLst/>
          </a:prstGeom>
          <a:solidFill>
            <a:srgbClr val="0033cc"/>
          </a:solidFill>
          <a:ln w="0">
            <a:noFill/>
          </a:ln>
          <a:effectLst>
            <a:outerShdw dist="17819" dir="2700000" blurRad="0" rotWithShape="0">
              <a:srgbClr val="00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2209680"/>
            <a:ext cx="5562720" cy="3276720"/>
          </a:xfrm>
          <a:prstGeom prst="rect">
            <a:avLst/>
          </a:prstGeom>
          <a:solidFill>
            <a:srgbClr val="0033cc"/>
          </a:solidFill>
          <a:ln w="0">
            <a:noFill/>
          </a:ln>
          <a:effectLst>
            <a:outerShdw dist="153753" dir="2700000" blurRad="0" rotWithShape="0">
              <a:srgbClr val="00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3400" y="762120"/>
            <a:ext cx="69228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Geben Sie die Werte der BV und der NBV 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in b. gebildeten Basislösung an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5880" y="2514600"/>
            <a:ext cx="4752720" cy="23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BV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NB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= 1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= 0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= 3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= 0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5T08:35:19Z</dcterms:created>
  <dc:creator>gerdoe</dc:creator>
  <dc:description/>
  <dc:language>en-US</dc:language>
  <cp:lastModifiedBy>gerdoe</cp:lastModifiedBy>
  <dcterms:modified xsi:type="dcterms:W3CDTF">2000-11-16T13:57:23Z</dcterms:modified>
  <cp:revision>19</cp:revision>
  <dc:subject/>
  <dc:title>PowerPoint-Präsentation</dc:title>
</cp:coreProperties>
</file>