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196-E434-40F0-831D-E7A3F0A3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5BE-74A5-4FD9-9825-7E496BD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D37-5DD2-451B-8CEE-EB50E855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FEF-641E-4342-98FE-DBDD7A55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CE7-9B7F-4948-B382-25BFB8D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B0D-F046-47EB-A141-7FE1405A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670-4ACE-4C35-A869-44CAFB6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21F-9271-465C-9A7B-D9F9CCA7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E71-B969-4C2C-B1C7-34A1E7F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CAD-B478-4FB0-9177-8857907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81E-22DC-45D1-8C5E-FAC7AD8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A9B-D5F1-4A5E-A6C6-CBC727D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0C4-1676-4D94-8A10-E4F6354C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686800" cy="355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ufgabe 13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in landwirtschaftlicher Betrieb hat sich auf die Haltung von Kühen und Jungvieh spezialisi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 den Ställen des Betriebes können höchstens 70 Kühe ODER 300 Stück Jungvieh gehalt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ür die Ernährung einer Kuh sind 0,25 ha, für ein Stück Jungvieh 0,10 ha Weideland nö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sgesamt hat der Betrieb 50 ha Weideland zur Verfü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e Haltung einer Kuh erbringt 400 DM Gewinn pro Jah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e Haltung eines Stück Jungvieh 50 DM pro Ja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86800" cy="355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ufgabe 13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in landwirtschaftlicher Betrieb hat sich auf die Haltung von Kühen und Jungvieh spezialisi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 den Ställen des Betriebes können höchstens 70 Kühe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OD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300 Stück Jungvieh gehalt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ür die Ernährung einer Kuh sind 0,25 ha, für ein Stück Jungvieh 0,10 ha Weideland nö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sgesamt hat der Betrieb 50 ha Weideland zur Verfü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e Haltung einer Kuh erbringt 400 DM Gewinn pro Jah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e Haltung eines Stück Jungvieh 50 DM pro Ja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5560" y="4343400"/>
            <a:ext cx="8716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Formulieren Sie einen LP-Ansatz zur Beantwortung der Fra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ieviele Kühe und wieviele Stücke Jungvieh der Betrieb halten muß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damit der Jahresgewinn möglichst groß wi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8560" y="685800"/>
            <a:ext cx="786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I. Entscheidungsvariable (Handlungsalternativ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ieviel Kühe und wieviel Jungvieh sollen gehalten werden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1 Kühe in St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2 Jungvieh in St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II Ziel: „.Der Jahresgewinn soll möglichst hoch sei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Z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400 * x1 + 50 * x2 ---&gt;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III. Restriktionen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0,25 ha * x1 + 0,1 ha * x2 &lt;= 50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1 &lt;=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2 &lt;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IV. Nebenbedingung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1, x2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V="1">
            <a:off x="1523880" y="106668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9880" y="327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6172200"/>
            <a:ext cx="48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58128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05720" y="583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880" y="574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905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9880" y="1676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9400" y="6172200"/>
            <a:ext cx="637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4000" y="6172200"/>
            <a:ext cx="637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905120"/>
            <a:ext cx="4953240" cy="4190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581280"/>
            <a:ext cx="6553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837720"/>
            <a:ext cx="0" cy="525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" y="2860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8840" y="609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7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457200"/>
            <a:ext cx="5105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R1:0,25 ha * x1 + 0,1 ha * x2 &lt;= 50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R2: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       x1 &lt;=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R3: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       x2 &lt;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ZF: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400 * x1 + 50 * x2 ---&gt;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514600" y="1980720"/>
            <a:ext cx="1295280" cy="388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219320" y="2666520"/>
            <a:ext cx="1295280" cy="388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09120" y="3276360"/>
            <a:ext cx="114300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914040" y="2971800"/>
            <a:ext cx="1219320" cy="3657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340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560" y="2819520"/>
            <a:ext cx="4079160" cy="1312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FALSC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1523880" y="106668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9880" y="327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0960" y="6172200"/>
            <a:ext cx="48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581280"/>
            <a:ext cx="152424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58128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05720" y="583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80880" y="574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91440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1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2 = -2,5 x1 +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2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2 = -30/7 x1 +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F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2 = -8 x1 + Z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8320" y="4495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905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9880" y="1676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9400" y="6172200"/>
            <a:ext cx="637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4000" y="6172200"/>
            <a:ext cx="637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905120"/>
            <a:ext cx="4953240" cy="4190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295280" y="914400"/>
            <a:ext cx="1828800" cy="541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51920" y="2057040"/>
            <a:ext cx="1600200" cy="4800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57200" y="1447920"/>
            <a:ext cx="1828800" cy="541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990720" y="1219320"/>
            <a:ext cx="1828800" cy="541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6019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640" y="2743200"/>
            <a:ext cx="36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1: 0,25 x1 + 0,1 x2 &lt;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2: 30/7 x1 + x2       &lt;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340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68040" y="1031760"/>
            <a:ext cx="765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Restrik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30/7 x1 + x2       &lt;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0,25 x1 + 0,1 x2 &lt;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Ziel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400 x1 + 50 x2 --&gt;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Nach Einführung der Schlupfvariablen x3 und x4 ergibt s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4495680"/>
          <a:ext cx="7848720" cy="13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95680"/>
                    <a:ext cx="784872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09480" y="1359000"/>
          <a:ext cx="795348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59000"/>
                    <a:ext cx="795348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24280" y="190512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838080"/>
            <a:ext cx="3808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66000" y="422280"/>
            <a:ext cx="26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ösung bei x1 = 70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0:37:00Z</dcterms:created>
  <dc:creator>ralf</dc:creator>
  <dc:description/>
  <dc:language>en-US</dc:language>
  <cp:lastModifiedBy>lulay</cp:lastModifiedBy>
  <dcterms:modified xsi:type="dcterms:W3CDTF">2000-10-26T11:28:16Z</dcterms:modified>
  <cp:revision>11</cp:revision>
  <dc:subject/>
  <dc:title>Kein Folientitel</dc:title>
</cp:coreProperties>
</file>