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96487-5F73-4AEB-847A-E7B745597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C3F9D-1C40-4D66-9937-607CB8ED9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84B45-FD8D-4339-A151-E32E2138B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D4C43-9666-449D-AD6D-9C41576ED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47C14-D317-4618-8EC5-2FDFE56C7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82159-3303-4D47-B9BD-BC6A83EB6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E16BE-14BA-4C64-89D5-EB8DB454C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28763-B6F5-41F2-9F4B-9EFF5F7E6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72BF6-7676-4BBA-B387-C66B48725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BBB74-1132-47E3-8675-CB252C047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1FEC7-E688-44D3-BDEA-3A33CFED4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4DCE3-1E1E-4BB4-9711-6914DECCE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F7BCF-4792-4F26-B87D-0AF45E5571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63120" y="1031760"/>
            <a:ext cx="72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ttermittelsorte           Kosten             cal            Eiweiß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120" y="1523880"/>
            <a:ext cx="7543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200400" y="13716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16765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38080" y="22860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2209680"/>
            <a:ext cx="7543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029200" y="13716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553080" y="13716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600200"/>
            <a:ext cx="838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167652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,60 D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22860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,10 D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181480" y="167652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00 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228600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00 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705720" y="167652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5 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705720" y="228600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0 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969480" y="3774960"/>
            <a:ext cx="788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sucht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schung aus beiden Futtermittelsorten zu minimalem Prei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bei mindestens 3000 cal und 100 g Eiweiß in der Mischu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thalten sein so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066680" y="5638680"/>
            <a:ext cx="4419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ielfunk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= 0,6 x1 + 2,1x2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990720" y="609480"/>
            <a:ext cx="76197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triktion 1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 müssen mind. 3000 cal in der Mischung enthalten se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66680" y="1905120"/>
            <a:ext cx="7543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00x1 + 2000x2 &gt;= 3000     |:1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1 + 2x2 &gt;=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3262320"/>
            <a:ext cx="76201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triktion 2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 müssen mind. 1000 g Eiweiß in der Mischung enthalten se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219320" y="4938840"/>
            <a:ext cx="7543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5x1 + 100x2 &gt;= 100     |: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1 + 4x2 &gt;=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762120" y="609480"/>
            <a:ext cx="7772400" cy="28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eichnerische Lösu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inzeichnen beider Restriktionsgerad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inzeichnen der Zielfunktion an beliebiger Stel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rschieben der Zielfunktionsgeraden in Richtung Ursprung           so dass sie den Lösungsraum gerade noch berühr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905120" y="838080"/>
            <a:ext cx="0" cy="457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1904760" y="5408280"/>
            <a:ext cx="4724280" cy="3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362320" y="53341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819520" y="53341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276720" y="53341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33920" y="53341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191120" y="53341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648320" y="53341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105520" y="53341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 flipV="1">
            <a:off x="1828440" y="4952880"/>
            <a:ext cx="1522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 flipV="1">
            <a:off x="1828440" y="4038480"/>
            <a:ext cx="1522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828440" y="3581280"/>
            <a:ext cx="1522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 flipV="1">
            <a:off x="1828440" y="3124080"/>
            <a:ext cx="1522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1828440" y="2666880"/>
            <a:ext cx="1522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1828440" y="2209680"/>
            <a:ext cx="1522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1828440" y="1752480"/>
            <a:ext cx="1522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 flipV="1">
            <a:off x="1828440" y="4495680"/>
            <a:ext cx="1522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562720" y="53341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209680" y="5454720"/>
            <a:ext cx="38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666880" y="5454720"/>
            <a:ext cx="38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124080" y="5454720"/>
            <a:ext cx="38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581280" y="5454720"/>
            <a:ext cx="38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038480" y="5454720"/>
            <a:ext cx="38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495680" y="5454720"/>
            <a:ext cx="38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952880" y="5454720"/>
            <a:ext cx="38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410080" y="5454720"/>
            <a:ext cx="38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600200" y="480060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600200" y="434340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600200" y="388620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600200" y="342900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600200" y="297180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600200" y="251460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600200" y="205740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600200" y="160020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219320" y="685800"/>
            <a:ext cx="53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x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400800" y="569916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x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1828440" y="4722480"/>
            <a:ext cx="152280" cy="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" y="3962520"/>
            <a:ext cx="5029200" cy="259056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04920" y="4572000"/>
            <a:ext cx="5790960" cy="144792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28600" y="354960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1+2x2 &gt;=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8600" y="492120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1+4x2 &gt;=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905120" y="838080"/>
            <a:ext cx="0" cy="457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1904760" y="5408280"/>
            <a:ext cx="4724280" cy="3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362320" y="53341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819520" y="53341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53341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733920" y="53341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191120" y="53341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648320" y="53341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105520" y="53341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 flipV="1">
            <a:off x="1828440" y="4952880"/>
            <a:ext cx="1522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 flipV="1">
            <a:off x="1828440" y="4038480"/>
            <a:ext cx="1522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 flipV="1">
            <a:off x="1828440" y="3581280"/>
            <a:ext cx="1522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1828440" y="3124080"/>
            <a:ext cx="1522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 flipV="1">
            <a:off x="1828440" y="2666880"/>
            <a:ext cx="1522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 flipV="1">
            <a:off x="1828440" y="2209680"/>
            <a:ext cx="1522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 flipV="1">
            <a:off x="1828440" y="1752480"/>
            <a:ext cx="1522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 flipV="1">
            <a:off x="1828440" y="4495680"/>
            <a:ext cx="1522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562720" y="53341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209680" y="5454720"/>
            <a:ext cx="38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666880" y="5454720"/>
            <a:ext cx="38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124080" y="5454720"/>
            <a:ext cx="38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581280" y="5454720"/>
            <a:ext cx="38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038480" y="5454720"/>
            <a:ext cx="38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495680" y="5454720"/>
            <a:ext cx="38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952880" y="5454720"/>
            <a:ext cx="38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410080" y="5454720"/>
            <a:ext cx="38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600200" y="480060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600200" y="434340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00200" y="388620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600200" y="342900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600200" y="297180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600200" y="251460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600200" y="205740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00200" y="160020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219320" y="685800"/>
            <a:ext cx="53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x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400800" y="569916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x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H="1" flipV="1">
            <a:off x="1828440" y="4722480"/>
            <a:ext cx="152280" cy="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57200" y="3962520"/>
            <a:ext cx="5029200" cy="259056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04920" y="4572000"/>
            <a:ext cx="5790960" cy="144792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438280" y="990720"/>
            <a:ext cx="4953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=0,6x1+ 2,1x2   | K= 4,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,2 = 0,6 x1 + 2,1 x2     |: 2,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 = 2/7 x1 + x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2 = -2/7 x1 +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3520" y="4114800"/>
            <a:ext cx="6858000" cy="19810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1905120" y="838080"/>
            <a:ext cx="0" cy="457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1904760" y="5408280"/>
            <a:ext cx="4724280" cy="3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62320" y="53341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819520" y="53341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3341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33920" y="53341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191120" y="53341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648320" y="53341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105520" y="53341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H="1" flipV="1">
            <a:off x="1828440" y="4952880"/>
            <a:ext cx="1522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H="1" flipV="1">
            <a:off x="1828440" y="4038480"/>
            <a:ext cx="1522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H="1" flipV="1">
            <a:off x="1828440" y="3581280"/>
            <a:ext cx="1522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H="1" flipV="1">
            <a:off x="1828440" y="3124080"/>
            <a:ext cx="1522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H="1" flipV="1">
            <a:off x="1828440" y="2666880"/>
            <a:ext cx="1522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H="1" flipV="1">
            <a:off x="1828440" y="2209680"/>
            <a:ext cx="1522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828440" y="1752480"/>
            <a:ext cx="1522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H="1" flipV="1">
            <a:off x="1828440" y="4495680"/>
            <a:ext cx="1522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562720" y="53341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209680" y="5454720"/>
            <a:ext cx="38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5454720"/>
            <a:ext cx="38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124080" y="5454720"/>
            <a:ext cx="38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581280" y="5454720"/>
            <a:ext cx="38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038480" y="5454720"/>
            <a:ext cx="38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495680" y="5454720"/>
            <a:ext cx="38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952880" y="5454720"/>
            <a:ext cx="38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410080" y="5454720"/>
            <a:ext cx="38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600200" y="480060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600200" y="434340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600200" y="388620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0200" y="342900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600200" y="297180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51460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600200" y="205740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600200" y="160020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219320" y="685800"/>
            <a:ext cx="53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x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400800" y="569916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x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1828440" y="4722480"/>
            <a:ext cx="152280" cy="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57200" y="3962520"/>
            <a:ext cx="5029200" cy="259056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04920" y="4572000"/>
            <a:ext cx="5790960" cy="144792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438280" y="990720"/>
            <a:ext cx="4953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=0,6x1+ 2,1x2   | K= 4,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,2 = 0,6 x1 + 2,1 x2     |: 2,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 = 2/7 x1 + x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2 = -2/7 x1 +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80880" y="4495680"/>
            <a:ext cx="6705720" cy="1828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905120" y="5181480"/>
            <a:ext cx="914400" cy="0"/>
          </a:xfrm>
          <a:prstGeom prst="line">
            <a:avLst/>
          </a:prstGeom>
          <a:ln w="158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2819520" y="5181120"/>
            <a:ext cx="0" cy="228600"/>
          </a:xfrm>
          <a:prstGeom prst="line">
            <a:avLst/>
          </a:prstGeom>
          <a:ln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09680" y="57913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1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80880" y="49528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2=0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533520" y="685800"/>
            <a:ext cx="39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Lösung mit Itera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09480" y="1676520"/>
            <a:ext cx="8229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inführung einer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Überschreitungsvariable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m die Restriktion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f Gleichheit zu überführe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09480" y="289548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x1 + 2x2 –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1x3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09480" y="335268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x1 + 4x2 –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1x4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62120" y="403848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nsatz der M - Methode ( Einführung </a:t>
            </a:r>
            <a:r>
              <a:rPr b="0" lang="de-DE" sz="2400" spc="-1" strike="noStrike">
                <a:solidFill>
                  <a:srgbClr val="ff3300"/>
                </a:solidFill>
                <a:latin typeface="Times New Roman"/>
              </a:rPr>
              <a:t>PseudoSchlupfvaraiable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62120" y="4724280"/>
            <a:ext cx="350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x1 + 2x2 –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1x3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x5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5257800"/>
            <a:ext cx="350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x1 + 4x2 –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1x4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x6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6T06:50:51Z</dcterms:created>
  <dc:creator>rumsdi</dc:creator>
  <dc:description/>
  <dc:language>en-US</dc:language>
  <cp:lastModifiedBy>rumsdi</cp:lastModifiedBy>
  <dcterms:modified xsi:type="dcterms:W3CDTF">2001-01-29T10:27:10Z</dcterms:modified>
  <cp:revision>15</cp:revision>
  <dc:subject/>
  <dc:title>PowerPoint-Präsentation</dc:title>
</cp:coreProperties>
</file>