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F3C6C-802F-47E1-83FC-8FE6F55E3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D3AE5-5A01-465B-9C6A-78E69A104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DA7F1-A74D-426D-A594-823173F35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75BA3-B734-45E9-8F94-C856D573A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6329ED-8AB7-41A3-8216-A8BD3CEC2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7E599-CCDA-4929-910E-EF412FFA4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DA98F-87DC-4215-8C18-A662CE68E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6767C-5B01-4ACD-95FC-BF9FAB9D8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E50ED-46BE-4DA0-9016-69F6C0C2EF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F5AEE-A2F7-4196-A262-0FC7064E1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EA1EE-706F-49E5-8AFB-B00755C4B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B3077-166E-43E9-A654-57BF056CD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072CE-7E5C-4461-A5E2-B8FA2F93D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9AB5F-0A5A-498D-B425-C43CAB54B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F7D47-4D38-46A2-A7EB-3D19142E3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91ADEB-2BAA-4A2F-ADA7-1502A120A0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EA92BA-5990-4CF1-95FA-C2C6155AB7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F66A1-1047-482F-BE0B-7D417DECE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4BDCA-1EAE-42AC-B618-0FEA0085E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93075-17BE-4315-9703-FF8C6AF71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1614B-959D-492C-B121-3BE33623A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159A9-A694-48FE-9453-67239C735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9E0C6-B134-4DE9-9BDC-78A08C491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40AC1-B2C6-40D8-9FA4-15C80C4EE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B3AEA-49BC-420D-8132-A3F40ECD0745}" type="slidenum">
              <a:rPr b="0" lang="de-DE"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24FA2-8BE8-4EB4-9A44-4C90CE475B7C}" type="slidenum">
              <a:rPr b="0" lang="de-DE"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Aufgabe 1 Teil 1</a:t>
            </a:r>
            <a:endParaRPr b="0" lang="en-US" sz="4400" spc="-1" strike="noStrike">
              <a:solidFill>
                <a:srgbClr val="660066"/>
              </a:solidFill>
              <a:latin typeface="Tahoma"/>
            </a:endParaRPr>
          </a:p>
        </p:txBody>
      </p:sp>
      <p:sp>
        <p:nvSpPr>
          <p:cNvPr id="209"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Fachhochschule Konstanz</a:t>
            </a:r>
            <a:endParaRPr b="0" lang="en-US" sz="3200" spc="-1" strike="noStrike">
              <a:solidFill>
                <a:srgbClr val="40458c"/>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irtschaftsinformatik</a:t>
            </a:r>
            <a:endParaRPr b="0" lang="en-US" sz="3200" spc="-1" strike="noStrike">
              <a:solidFill>
                <a:srgbClr val="40458c"/>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Adolfo Navarro</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660066"/>
                </a:solidFill>
                <a:latin typeface="Tahoma"/>
              </a:rPr>
              <a:t>Aufgabenstellung</a:t>
            </a:r>
            <a:endParaRPr b="0" lang="en-US" sz="3200" spc="-1" strike="noStrike">
              <a:solidFill>
                <a:srgbClr val="660066"/>
              </a:solidFill>
              <a:latin typeface="Tahoma"/>
            </a:endParaRPr>
          </a:p>
        </p:txBody>
      </p:sp>
      <p:sp>
        <p:nvSpPr>
          <p:cNvPr id="211" name="PlaceHolder 2"/>
          <p:cNvSpPr>
            <a:spLocks noGrp="1"/>
          </p:cNvSpPr>
          <p:nvPr>
            <p:ph/>
          </p:nvPr>
        </p:nvSpPr>
        <p:spPr>
          <a:xfrm>
            <a:off x="838080" y="1905120"/>
            <a:ext cx="7772400" cy="4572000"/>
          </a:xfrm>
          <a:prstGeom prst="rect">
            <a:avLst/>
          </a:prstGeom>
          <a:noFill/>
          <a:ln w="0">
            <a:noFill/>
          </a:ln>
        </p:spPr>
        <p:txBody>
          <a:bodyPr lIns="90000" rIns="90000" tIns="46800" bIns="46800" anchor="t">
            <a:normAutofit fontScale="96000"/>
          </a:bodyPr>
          <a:p>
            <a:pPr marL="329040" indent="-32904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Ein betrieb benötigt zur Herstellung zweier Produkte vier verschiedene Maschinen.  Wir wollen sie mit A,B,C und D bezeichnen. Vor der Maschine A stehen 16 Einheiten, von B 10 Einheiten, von C 16 Einheiten und von D 12 Einheiten zur Verfügung. Nach den technologischen Angaben braucht man zur Herstellung einer Einheit des ersten Produktes je 2,2,4 bzw. 0 Einheiten der einzelnen Einsatzgrößen. Diese Angaben werden die technische Koeffizienten des ersten Produkts genannt. Für das zweite Produkt sind diese Koeffizienten 4,1,0 und 4. Diese Angaben werde die technische Koeffizienten des ersten Produktes genannt. Auf Grund der betrieblichen Kalkulation wissen wir ferner, daß jedes einzelne Stück des ersten Produkts einein Gewinn von 2 Geldeinheiten und jedes einzelne Stück des zweiten Produkts einen Gewinn von 3 Geldeinheiten bringt. Wieviel Stück muß der Betrieb von den einzelnen Produkten herstellen, wenn er den maximalen Gewinn erzielen will?</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660066"/>
                </a:solidFill>
                <a:latin typeface="Tahoma"/>
              </a:rPr>
              <a:t>Lösung – Übersichtstabelle</a:t>
            </a:r>
            <a:endParaRPr b="0" lang="en-US" sz="3200" spc="-1" strike="noStrike">
              <a:solidFill>
                <a:srgbClr val="660066"/>
              </a:solidFill>
              <a:latin typeface="Tahoma"/>
            </a:endParaRPr>
          </a:p>
        </p:txBody>
      </p:sp>
      <p:graphicFrame>
        <p:nvGraphicFramePr>
          <p:cNvPr id="213" name=""/>
          <p:cNvGraphicFramePr/>
          <p:nvPr/>
        </p:nvGraphicFramePr>
        <p:xfrm>
          <a:off x="914400" y="1828800"/>
          <a:ext cx="7620120" cy="4092480"/>
        </p:xfrm>
        <a:graphic>
          <a:graphicData uri="http://schemas.openxmlformats.org/drawingml/2006/table">
            <a:tbl>
              <a:tblPr/>
              <a:tblGrid>
                <a:gridCol w="1905120"/>
                <a:gridCol w="1904760"/>
                <a:gridCol w="1905120"/>
                <a:gridCol w="190512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Technische Koeffizienten</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Maschinen</a:t>
                      </a:r>
                      <a:endParaRPr b="0" lang="en-US" sz="2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Produkt1</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Produkt2</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Kapazität</a:t>
                      </a:r>
                      <a:endParaRPr b="0" lang="en-US" sz="2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A</a:t>
                      </a:r>
                      <a:endParaRPr b="0" lang="en-US" sz="2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2</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4</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16</a:t>
                      </a:r>
                      <a:endParaRPr b="0" lang="en-US" sz="2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B</a:t>
                      </a:r>
                      <a:endParaRPr b="0" lang="en-US" sz="2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2</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1</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10</a:t>
                      </a:r>
                      <a:endParaRPr b="0" lang="en-US" sz="2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C</a:t>
                      </a:r>
                      <a:endParaRPr b="0" lang="en-US" sz="2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4</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0</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16</a:t>
                      </a:r>
                      <a:endParaRPr b="0" lang="en-US" sz="2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D</a:t>
                      </a:r>
                      <a:endParaRPr b="0" lang="en-US" sz="2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0</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4</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12</a:t>
                      </a:r>
                      <a:endParaRPr b="0" lang="en-US" sz="2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Gewinn</a:t>
                      </a:r>
                      <a:endParaRPr b="0" lang="en-US" sz="2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2</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3</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660066"/>
                </a:solidFill>
                <a:latin typeface="Tahoma"/>
              </a:rPr>
              <a:t>Lösung – Annahmen und Restriktionen</a:t>
            </a:r>
            <a:endParaRPr b="0" lang="en-US" sz="3200" spc="-1" strike="noStrike">
              <a:solidFill>
                <a:srgbClr val="660066"/>
              </a:solidFill>
              <a:latin typeface="Tahoma"/>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 </a:t>
            </a:r>
            <a:r>
              <a:rPr b="0" lang="de-DE" sz="3200" spc="-1" strike="noStrike">
                <a:solidFill>
                  <a:srgbClr val="40458c"/>
                </a:solidFill>
                <a:latin typeface="Tahoma"/>
              </a:rPr>
              <a:t>x1 seien die hergestellten Einheiten des Produkts 1</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 </a:t>
            </a:r>
            <a:r>
              <a:rPr b="0" lang="de-DE" sz="3200" spc="-1" strike="noStrike">
                <a:solidFill>
                  <a:srgbClr val="40458c"/>
                </a:solidFill>
                <a:latin typeface="Tahoma"/>
              </a:rPr>
              <a:t>x2 seien die hergestellten Einheiten des Produkts 2</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 </a:t>
            </a:r>
            <a:r>
              <a:rPr b="0" lang="de-DE" sz="3200" spc="-1" strike="noStrike">
                <a:solidFill>
                  <a:srgbClr val="40458c"/>
                </a:solidFill>
                <a:latin typeface="Tahoma"/>
              </a:rPr>
              <a:t>x1, x2 &gt;=0</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660066"/>
                </a:solidFill>
                <a:latin typeface="Tahoma"/>
              </a:rPr>
              <a:t>Lösung – Annahmen und Restriktionen</a:t>
            </a:r>
            <a:endParaRPr b="0" lang="en-US" sz="3200" spc="-1" strike="noStrike">
              <a:solidFill>
                <a:srgbClr val="660066"/>
              </a:solidFill>
              <a:latin typeface="Tahoma"/>
            </a:endParaRPr>
          </a:p>
        </p:txBody>
      </p:sp>
      <p:sp>
        <p:nvSpPr>
          <p:cNvPr id="217" name="PlaceHolder 2"/>
          <p:cNvSpPr>
            <a:spLocks noGrp="1"/>
          </p:cNvSpPr>
          <p:nvPr>
            <p:ph/>
          </p:nvPr>
        </p:nvSpPr>
        <p:spPr>
          <a:xfrm>
            <a:off x="4343040" y="4038480"/>
            <a:ext cx="4343400" cy="236232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2*x1+4*x2 &lt;= 16</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2*x1+1*x2 &lt;= 10</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4*x1</a:t>
            </a:r>
            <a:r>
              <a:rPr b="0" lang="de-DE" sz="3200" spc="-1" strike="noStrike">
                <a:solidFill>
                  <a:srgbClr val="40458c"/>
                </a:solidFill>
                <a:latin typeface="Tahoma"/>
              </a:rPr>
              <a:t>	</a:t>
            </a:r>
            <a:r>
              <a:rPr b="0" lang="de-DE" sz="3200" spc="-1" strike="noStrike">
                <a:solidFill>
                  <a:srgbClr val="40458c"/>
                </a:solidFill>
                <a:latin typeface="Tahoma"/>
              </a:rPr>
              <a:t>     &lt;= 16</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       </a:t>
            </a:r>
            <a:r>
              <a:rPr b="0" lang="de-DE" sz="3200" spc="-1" strike="noStrike">
                <a:solidFill>
                  <a:srgbClr val="40458c"/>
                </a:solidFill>
                <a:latin typeface="Tahoma"/>
              </a:rPr>
              <a:t>+4*x2 &lt;= 12</a:t>
            </a:r>
            <a:endParaRPr b="0" lang="en-US" sz="3200" spc="-1" strike="noStrike">
              <a:solidFill>
                <a:srgbClr val="40458c"/>
              </a:solidFill>
              <a:latin typeface="Tahoma"/>
            </a:endParaRPr>
          </a:p>
        </p:txBody>
      </p:sp>
      <p:graphicFrame>
        <p:nvGraphicFramePr>
          <p:cNvPr id="218" name=""/>
          <p:cNvGraphicFramePr/>
          <p:nvPr/>
        </p:nvGraphicFramePr>
        <p:xfrm>
          <a:off x="914400" y="1828800"/>
          <a:ext cx="3733920" cy="1962000"/>
        </p:xfrm>
        <a:graphic>
          <a:graphicData uri="http://schemas.openxmlformats.org/drawingml/2006/table">
            <a:tbl>
              <a:tblPr/>
              <a:tblGrid>
                <a:gridCol w="933480"/>
                <a:gridCol w="933480"/>
                <a:gridCol w="933480"/>
                <a:gridCol w="933480"/>
              </a:tblGrid>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Technische Koeffizienten</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Maschine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Produk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Produk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Kapazität</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A</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16</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B</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10</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C</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0</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16</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D</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0</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12</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Gewin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219" name=""/>
          <p:cNvSpPr/>
          <p:nvPr/>
        </p:nvSpPr>
        <p:spPr>
          <a:xfrm>
            <a:off x="3886200" y="3962520"/>
            <a:ext cx="380880" cy="2666880"/>
          </a:xfrm>
          <a:custGeom>
            <a:avLst/>
            <a:gdLst>
              <a:gd name="textAreaLeft" fmla="*/ 243360 w 380880"/>
              <a:gd name="textAreaRight" fmla="*/ 381240 w 38088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0" name=""/>
          <p:cNvSpPr/>
          <p:nvPr/>
        </p:nvSpPr>
        <p:spPr>
          <a:xfrm>
            <a:off x="609480" y="4419720"/>
            <a:ext cx="3353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Es dürfen ja höchstens die zur Verfügung stehenden Menge der einzelnen Maschinen benutzt werden</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660066"/>
                </a:solidFill>
                <a:latin typeface="Tahoma"/>
              </a:rPr>
              <a:t>Lösung – Annahmen und Restriktionen</a:t>
            </a:r>
            <a:endParaRPr b="0" lang="en-US" sz="3200" spc="-1" strike="noStrike">
              <a:solidFill>
                <a:srgbClr val="660066"/>
              </a:solidFill>
              <a:latin typeface="Tahoma"/>
            </a:endParaRPr>
          </a:p>
        </p:txBody>
      </p:sp>
      <p:sp>
        <p:nvSpPr>
          <p:cNvPr id="222" name="PlaceHolder 2"/>
          <p:cNvSpPr>
            <a:spLocks noGrp="1"/>
          </p:cNvSpPr>
          <p:nvPr>
            <p:ph/>
          </p:nvPr>
        </p:nvSpPr>
        <p:spPr>
          <a:xfrm>
            <a:off x="4343040" y="4038480"/>
            <a:ext cx="4343400" cy="236232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2*x1+3*x2 -&gt; max!</a:t>
            </a:r>
            <a:endParaRPr b="0" lang="en-US" sz="3200" spc="-1" strike="noStrike">
              <a:solidFill>
                <a:srgbClr val="40458c"/>
              </a:solidFill>
              <a:latin typeface="Tahoma"/>
            </a:endParaRPr>
          </a:p>
        </p:txBody>
      </p:sp>
      <p:graphicFrame>
        <p:nvGraphicFramePr>
          <p:cNvPr id="223" name=""/>
          <p:cNvGraphicFramePr/>
          <p:nvPr/>
        </p:nvGraphicFramePr>
        <p:xfrm>
          <a:off x="914400" y="1828800"/>
          <a:ext cx="3733920" cy="1962000"/>
        </p:xfrm>
        <a:graphic>
          <a:graphicData uri="http://schemas.openxmlformats.org/drawingml/2006/table">
            <a:tbl>
              <a:tblPr/>
              <a:tblGrid>
                <a:gridCol w="933480"/>
                <a:gridCol w="933480"/>
                <a:gridCol w="933480"/>
                <a:gridCol w="933480"/>
              </a:tblGrid>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Technische Koeffizienten</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Maschine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Produk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Produk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Kapazität</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A</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16</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B</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10</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C</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0</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16</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D</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0</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12</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Gewin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solidFill>
                      <a:srgbClr val="cfdbf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solidFill>
                      <a:srgbClr val="cfdbf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solidFill>
                      <a:srgbClr val="cfdbfd"/>
                    </a:solidFill>
                  </a:tcPr>
                </a:tc>
              </a:tr>
            </a:tbl>
          </a:graphicData>
        </a:graphic>
      </p:graphicFrame>
      <p:sp>
        <p:nvSpPr>
          <p:cNvPr id="224" name=""/>
          <p:cNvSpPr/>
          <p:nvPr/>
        </p:nvSpPr>
        <p:spPr>
          <a:xfrm>
            <a:off x="3886200" y="3962520"/>
            <a:ext cx="380880" cy="2666880"/>
          </a:xfrm>
          <a:custGeom>
            <a:avLst/>
            <a:gdLst>
              <a:gd name="textAreaLeft" fmla="*/ 243360 w 380880"/>
              <a:gd name="textAreaRight" fmla="*/ 381240 w 38088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5" name=""/>
          <p:cNvSpPr/>
          <p:nvPr/>
        </p:nvSpPr>
        <p:spPr>
          <a:xfrm>
            <a:off x="609480" y="4419720"/>
            <a:ext cx="3353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Da der höchste Gewinn erzielt werden sol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Lösung - Ergebnis</a:t>
            </a:r>
            <a:endParaRPr b="0" lang="en-US" sz="4400" spc="-1" strike="noStrike">
              <a:solidFill>
                <a:srgbClr val="660066"/>
              </a:solidFill>
              <a:latin typeface="Tahoma"/>
            </a:endParaRPr>
          </a:p>
        </p:txBody>
      </p:sp>
      <p:sp>
        <p:nvSpPr>
          <p:cNvPr id="22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Value of Objektive function:               14</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x1                       4</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x2                       2</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Dann muss ich 4 Einheiten von Produkt 1 und 2 Einheiten von Produkt 2 herstellen um damit den maximalen Gewinn zu erzielen, nämlich 14 Geldeinheiten.</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3T10:44:53Z</dcterms:created>
  <dc:creator>navarro</dc:creator>
  <dc:description/>
  <dc:language>en-US</dc:language>
  <cp:lastModifiedBy>navarro</cp:lastModifiedBy>
  <dcterms:modified xsi:type="dcterms:W3CDTF">2000-11-23T13:25:09Z</dcterms:modified>
  <cp:revision>7</cp:revision>
  <dc:subject/>
  <dc:title>Aufgabe 1 Teil 1</dc:title>
</cp:coreProperties>
</file>